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  <p:sldId id="289" r:id="rId119"/>
    <p:sldId id="290" r:id="rId120"/>
    <p:sldId id="291" r:id="rId121"/>
    <p:sldId id="292" r:id="rId122"/>
    <p:sldId id="293" r:id="rId123"/>
    <p:sldId id="294" r:id="rId124"/>
    <p:sldId id="295" r:id="rId125"/>
    <p:sldId id="296" r:id="rId126"/>
    <p:sldId id="297" r:id="rId127"/>
    <p:sldId id="298" r:id="rId128"/>
    <p:sldId id="299" r:id="rId129"/>
    <p:sldId id="300" r:id="rId130"/>
    <p:sldId id="301" r:id="rId131"/>
    <p:sldId id="302" r:id="rId132"/>
    <p:sldId id="303" r:id="rId133"/>
    <p:sldId id="304" r:id="rId134"/>
    <p:sldId id="305" r:id="rId135"/>
    <p:sldId id="306" r:id="rId136"/>
    <p:sldId id="307" r:id="rId137"/>
    <p:sldId id="308" r:id="rId138"/>
    <p:sldId id="309" r:id="rId139"/>
    <p:sldId id="310" r:id="rId140"/>
    <p:sldId id="311" r:id="rId141"/>
    <p:sldId id="312" r:id="rId142"/>
    <p:sldId id="313" r:id="rId143"/>
    <p:sldId id="314" r:id="rId144"/>
    <p:sldId id="315" r:id="rId145"/>
    <p:sldId id="316" r:id="rId146"/>
    <p:sldId id="317" r:id="rId147"/>
    <p:sldId id="318" r:id="rId148"/>
    <p:sldId id="319" r:id="rId149"/>
    <p:sldId id="320" r:id="rId150"/>
    <p:sldId id="321" r:id="rId151"/>
    <p:sldId id="322" r:id="rId152"/>
    <p:sldId id="323" r:id="rId153"/>
    <p:sldId id="324" r:id="rId154"/>
    <p:sldId id="325" r:id="rId155"/>
    <p:sldId id="326" r:id="rId156"/>
    <p:sldId id="327" r:id="rId157"/>
    <p:sldId id="328" r:id="rId158"/>
    <p:sldId id="329" r:id="rId159"/>
    <p:sldId id="330" r:id="rId160"/>
    <p:sldId id="331" r:id="rId161"/>
    <p:sldId id="332" r:id="rId162"/>
    <p:sldId id="333" r:id="rId163"/>
    <p:sldId id="334" r:id="rId164"/>
    <p:sldId id="335" r:id="rId165"/>
    <p:sldId id="336" r:id="rId166"/>
    <p:sldId id="337" r:id="rId167"/>
    <p:sldId id="338" r:id="rId168"/>
    <p:sldId id="339" r:id="rId169"/>
    <p:sldId id="340" r:id="rId170"/>
    <p:sldId id="341" r:id="rId171"/>
    <p:sldId id="342" r:id="rId172"/>
    <p:sldId id="343" r:id="rId173"/>
    <p:sldId id="344" r:id="rId174"/>
    <p:sldId id="345" r:id="rId175"/>
    <p:sldId id="346" r:id="rId176"/>
    <p:sldId id="347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slide" Target="slides/slide34.xml"/><Relationship Id="rId120" Type="http://schemas.openxmlformats.org/officeDocument/2006/relationships/slide" Target="slides/slide35.xml"/><Relationship Id="rId121" Type="http://schemas.openxmlformats.org/officeDocument/2006/relationships/slide" Target="slides/slide36.xml"/><Relationship Id="rId122" Type="http://schemas.openxmlformats.org/officeDocument/2006/relationships/slide" Target="slides/slide37.xml"/><Relationship Id="rId123" Type="http://schemas.openxmlformats.org/officeDocument/2006/relationships/slide" Target="slides/slide38.xml"/><Relationship Id="rId124" Type="http://schemas.openxmlformats.org/officeDocument/2006/relationships/slide" Target="slides/slide39.xml"/><Relationship Id="rId125" Type="http://schemas.openxmlformats.org/officeDocument/2006/relationships/slide" Target="slides/slide40.xml"/><Relationship Id="rId126" Type="http://schemas.openxmlformats.org/officeDocument/2006/relationships/slide" Target="slides/slide41.xml"/><Relationship Id="rId127" Type="http://schemas.openxmlformats.org/officeDocument/2006/relationships/slide" Target="slides/slide42.xml"/><Relationship Id="rId128" Type="http://schemas.openxmlformats.org/officeDocument/2006/relationships/slide" Target="slides/slide43.xml"/><Relationship Id="rId129" Type="http://schemas.openxmlformats.org/officeDocument/2006/relationships/slide" Target="slides/slide44.xml"/><Relationship Id="rId130" Type="http://schemas.openxmlformats.org/officeDocument/2006/relationships/slide" Target="slides/slide45.xml"/><Relationship Id="rId131" Type="http://schemas.openxmlformats.org/officeDocument/2006/relationships/slide" Target="slides/slide46.xml"/><Relationship Id="rId132" Type="http://schemas.openxmlformats.org/officeDocument/2006/relationships/slide" Target="slides/slide47.xml"/><Relationship Id="rId133" Type="http://schemas.openxmlformats.org/officeDocument/2006/relationships/slide" Target="slides/slide48.xml"/><Relationship Id="rId134" Type="http://schemas.openxmlformats.org/officeDocument/2006/relationships/slide" Target="slides/slide49.xml"/><Relationship Id="rId135" Type="http://schemas.openxmlformats.org/officeDocument/2006/relationships/slide" Target="slides/slide50.xml"/><Relationship Id="rId136" Type="http://schemas.openxmlformats.org/officeDocument/2006/relationships/slide" Target="slides/slide51.xml"/><Relationship Id="rId137" Type="http://schemas.openxmlformats.org/officeDocument/2006/relationships/slide" Target="slides/slide52.xml"/><Relationship Id="rId138" Type="http://schemas.openxmlformats.org/officeDocument/2006/relationships/slide" Target="slides/slide53.xml"/><Relationship Id="rId139" Type="http://schemas.openxmlformats.org/officeDocument/2006/relationships/slide" Target="slides/slide54.xml"/><Relationship Id="rId140" Type="http://schemas.openxmlformats.org/officeDocument/2006/relationships/slide" Target="slides/slide55.xml"/><Relationship Id="rId141" Type="http://schemas.openxmlformats.org/officeDocument/2006/relationships/slide" Target="slides/slide56.xml"/><Relationship Id="rId142" Type="http://schemas.openxmlformats.org/officeDocument/2006/relationships/slide" Target="slides/slide57.xml"/><Relationship Id="rId143" Type="http://schemas.openxmlformats.org/officeDocument/2006/relationships/slide" Target="slides/slide58.xml"/><Relationship Id="rId144" Type="http://schemas.openxmlformats.org/officeDocument/2006/relationships/slide" Target="slides/slide59.xml"/><Relationship Id="rId145" Type="http://schemas.openxmlformats.org/officeDocument/2006/relationships/slide" Target="slides/slide60.xml"/><Relationship Id="rId146" Type="http://schemas.openxmlformats.org/officeDocument/2006/relationships/slide" Target="slides/slide61.xml"/><Relationship Id="rId147" Type="http://schemas.openxmlformats.org/officeDocument/2006/relationships/slide" Target="slides/slide62.xml"/><Relationship Id="rId148" Type="http://schemas.openxmlformats.org/officeDocument/2006/relationships/slide" Target="slides/slide63.xml"/><Relationship Id="rId149" Type="http://schemas.openxmlformats.org/officeDocument/2006/relationships/slide" Target="slides/slide64.xml"/><Relationship Id="rId150" Type="http://schemas.openxmlformats.org/officeDocument/2006/relationships/slide" Target="slides/slide65.xml"/><Relationship Id="rId151" Type="http://schemas.openxmlformats.org/officeDocument/2006/relationships/slide" Target="slides/slide66.xml"/><Relationship Id="rId152" Type="http://schemas.openxmlformats.org/officeDocument/2006/relationships/slide" Target="slides/slide67.xml"/><Relationship Id="rId153" Type="http://schemas.openxmlformats.org/officeDocument/2006/relationships/slide" Target="slides/slide68.xml"/><Relationship Id="rId154" Type="http://schemas.openxmlformats.org/officeDocument/2006/relationships/slide" Target="slides/slide69.xml"/><Relationship Id="rId155" Type="http://schemas.openxmlformats.org/officeDocument/2006/relationships/slide" Target="slides/slide70.xml"/><Relationship Id="rId156" Type="http://schemas.openxmlformats.org/officeDocument/2006/relationships/slide" Target="slides/slide71.xml"/><Relationship Id="rId157" Type="http://schemas.openxmlformats.org/officeDocument/2006/relationships/slide" Target="slides/slide72.xml"/><Relationship Id="rId158" Type="http://schemas.openxmlformats.org/officeDocument/2006/relationships/slide" Target="slides/slide73.xml"/><Relationship Id="rId159" Type="http://schemas.openxmlformats.org/officeDocument/2006/relationships/slide" Target="slides/slide74.xml"/><Relationship Id="rId160" Type="http://schemas.openxmlformats.org/officeDocument/2006/relationships/slide" Target="slides/slide75.xml"/><Relationship Id="rId161" Type="http://schemas.openxmlformats.org/officeDocument/2006/relationships/slide" Target="slides/slide76.xml"/><Relationship Id="rId162" Type="http://schemas.openxmlformats.org/officeDocument/2006/relationships/slide" Target="slides/slide77.xml"/><Relationship Id="rId163" Type="http://schemas.openxmlformats.org/officeDocument/2006/relationships/slide" Target="slides/slide78.xml"/><Relationship Id="rId164" Type="http://schemas.openxmlformats.org/officeDocument/2006/relationships/slide" Target="slides/slide79.xml"/><Relationship Id="rId165" Type="http://schemas.openxmlformats.org/officeDocument/2006/relationships/slide" Target="slides/slide80.xml"/><Relationship Id="rId166" Type="http://schemas.openxmlformats.org/officeDocument/2006/relationships/slide" Target="slides/slide81.xml"/><Relationship Id="rId167" Type="http://schemas.openxmlformats.org/officeDocument/2006/relationships/slide" Target="slides/slide82.xml"/><Relationship Id="rId168" Type="http://schemas.openxmlformats.org/officeDocument/2006/relationships/slide" Target="slides/slide83.xml"/><Relationship Id="rId169" Type="http://schemas.openxmlformats.org/officeDocument/2006/relationships/slide" Target="slides/slide84.xml"/><Relationship Id="rId170" Type="http://schemas.openxmlformats.org/officeDocument/2006/relationships/slide" Target="slides/slide85.xml"/><Relationship Id="rId171" Type="http://schemas.openxmlformats.org/officeDocument/2006/relationships/slide" Target="slides/slide86.xml"/><Relationship Id="rId172" Type="http://schemas.openxmlformats.org/officeDocument/2006/relationships/slide" Target="slides/slide87.xml"/><Relationship Id="rId173" Type="http://schemas.openxmlformats.org/officeDocument/2006/relationships/slide" Target="slides/slide88.xml"/><Relationship Id="rId174" Type="http://schemas.openxmlformats.org/officeDocument/2006/relationships/slide" Target="slides/slide89.xml"/><Relationship Id="rId175" Type="http://schemas.openxmlformats.org/officeDocument/2006/relationships/slide" Target="slides/slide90.xml"/><Relationship Id="rId176" Type="http://schemas.openxmlformats.org/officeDocument/2006/relationships/slide" Target="slides/slide91.xml"/><Relationship Id="rId177" Type="http://schemas.openxmlformats.org/officeDocument/2006/relationships/slide" Target="slides/slide92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19766-C6FE-4CEF-948A-3F7D7FF5FC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B00F-DA64-4D90-A826-F144712F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893F7-9CAD-41D2-9455-B32E516AB727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5A8F7C-EA6C-4306-981E-26BF92F5559F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0743FD-9238-41BA-B1D7-A04FF442C519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366437-7F4C-4414-BE7C-8DB5479CD32C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F30CA1-87A3-44C2-A23B-A2656CF760B9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E1DC98-7CC2-4B0B-8AE4-541AD98AABF5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2067B0-17FC-450A-AFE1-0DD737CFAFFC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06189F-E040-4D27-93B3-50930156C507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720145-909A-411C-B9C7-1CD817EAF60F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D74470-B70F-4600-8E7D-D2788B18F83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6529C-5BE4-4D9C-A84E-32A7BB76313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7BC80-975D-443B-A332-9A9B1BD4C6C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39529-39C4-44B7-9E2D-0B56241D603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5FC8C-9CC9-4DCF-8FB5-568B3BD39BE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CE2B1-5ECB-4247-8927-905761B1243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739B6-1B11-4840-AE8D-CFB3818EF67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1AC13-68DD-4F3F-9DB6-865120E0A97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ACEA2-1D72-4741-8270-882863AB699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8FFC09-25A5-48A4-8E1E-D549BDAB4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F367-0B9F-484C-B5B2-02AEBC7E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06A397-D735-4C77-A7AE-C7F56FC7E85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A908BE-C6EB-4650-AED2-7C6C27ACFB6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1B0F28-0D2C-440A-AB42-AD226F84A60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9E2C2B-DBCE-4B8E-8E4C-F9F011AEB06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116B3C-2699-4EC6-9CF4-E0D50851887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21F253-594F-4702-A4FA-CBC63D6FFFB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44263B-52A6-44B0-BA85-64A97E5A7B0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DEFB6A-7056-45BE-B754-B1F31895A03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0B5063-BFB5-46D0-8062-BC6271C3E77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859209-6ED8-4D6B-8D4A-90BB3BA0B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33735-42F0-4AB7-8F5F-DB661262F9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9AF784-45B1-4434-8E61-A9609FA68AA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C54A57-DD65-42D1-A2C2-208DCC785D9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60211-16C6-4BE1-A027-5D75197BB76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051251-A844-4A2A-89B6-8765D5D2399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64E490-2DFC-4D07-9319-E3D58E1D162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507BB7-A860-47A5-8F75-0A6AFCBFF33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23DFB6-65DB-435C-BD65-391ECE61413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AFCF7C-34CC-496D-868A-385DC1B2745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107DED-E472-45F2-8D21-521EE079671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E355B2-2A85-47F1-B1A5-5E728B719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22FF-931E-4866-8B7E-59D8BBA0D5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F2DD2E-AC1A-4874-B6B8-34959574885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B40498-2943-4787-834F-49450E9F31F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D000EF-91A8-4C4E-901F-3432D713F52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F7CFD-1A4E-4038-B6EB-5DB819023BB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EB542-74C5-4BE7-A340-9F7C0994BDB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CC9FD-6094-4977-8C93-547195A6566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B823C-CC5A-4095-BF7A-249832FE461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C579C-7083-4E3F-855B-B466A7310D8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2D6EB-E739-4878-8310-AF645A4BD90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BD7C4-3E4B-4155-81E6-16D04CCC30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1E70-280C-4758-8F8F-CDF085A6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D4103-5D89-465F-B375-86A31B9F606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9F0D6-A7B9-4E55-A3A5-DC90E010A14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FA4CE-885D-45F7-A544-3C7A537CA84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C7B8D-A2C0-4817-8865-D4249061F8E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AA244-0D85-4C89-AB29-30C35D13E91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832E94-E496-4B63-B7E0-F1DD3DE440F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112EFE-6FCF-4BAF-8C62-712232DA607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DEF358-20C1-4994-8177-457C026DB75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D4F4B2-2171-42D4-A2A5-0AFD2006B2C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0F58DD-DC5D-494B-8CE7-EC0F2BAF80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52DA-DA23-4D60-9115-7AA81277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4A26BC-1061-4B53-8A57-18A1A8CE1C1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14A3B0-B400-4412-8767-3A6CAA3E4F7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229C3C-8FBA-4899-9188-5F7D275EBFC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3F20B8-34F4-4352-962B-FA678AE0EE1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C474F5-EA12-4570-A528-23BECFB8278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028B5F-CBC9-41FA-BCCB-09FBD56843C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2A78A4-066C-4B0B-AE22-5B518D19534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3EA0DF-C8BD-4128-86CD-99F0CF82254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37A0E4-9B34-4122-91A5-EBAB3FCCB6D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DCF2C0-BF33-4E81-9F60-6F157543A1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56F3-272D-428A-93FD-54466B50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FCD161-15D4-47BB-A03F-4137A29C6E5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EDFA91-2766-47E5-9AAD-50D60002491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1DCFAF-8A51-4A92-B5B5-A122F4355C4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157B8B-2B94-4CA4-B9D4-8C519704FE2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C8D5FF-E3B7-42C9-B87F-9FDAAE15B0C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ACA434-788A-4F7B-87CD-126E61F462F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890E9C-2710-4F4F-BD1A-834FAC2BACD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9F165B-96F2-422C-92DE-1344CF5185A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290386-5906-4B9D-AFED-614878FD3B3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10A09-4744-4041-B7A7-70DDA42A43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EFD-939D-4633-9E0A-9B1E2CC6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9BFDB-642C-41EE-856E-E9A28063470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51B24-BA0A-483C-A673-66C1A6BC28B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FCCDF-6FEA-4C0D-AE9F-940C8B51F39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DCFF7-0E66-4D61-99E7-B3E26E4391A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2E6B1-12F3-4518-85CF-FE98E2C58AB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E29BF-5C14-4739-8BA5-CA3A384B963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8AC47-E58B-443D-9006-942FE87E6EF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DFE8C-48D8-48FC-B076-56D317C7D86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2695D-A20C-4AD8-BC46-8AF80A24126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707E6-6813-477A-8F61-7A84A9A8B7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4DC-E6D1-4583-B432-6DE1A39A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903D1-56F9-4891-81B4-21FC31AB774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66B18E-B109-4AC9-B24F-E9C800AEFA5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4ED2E3-E5D3-42AA-BECA-4C06F286D86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067C58-5A43-4E5D-BB3F-9BF97A3F9CE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8FA2AE-95F4-400E-AB99-0E0A405A138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FF9563-070C-4785-AF83-1059C89F293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DC136C-89FF-4918-80ED-4421DBDE694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3EF5A8-967E-434C-8810-A750C0ED340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8BEA77-31E6-4B70-B93D-06663E86BA4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47C778-6037-45AF-9F71-E0B57881DB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FB2-ED5C-45D7-9474-B7CB378F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645306-F3E8-4EBD-A415-99E23F00AD1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BBC4B0-75AB-4A1D-BDD2-01090114579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0CC18F-815C-46C3-8521-0815EB33B44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17AE02-5348-44CC-BEC8-33D1B604A57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25D33A-3465-4A3E-A7D9-A813A0F2524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D8E5D6-6976-4ED9-B0FD-06D329A16CD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EDD772-CE55-4FBD-BB81-8E44E2FF38F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388F5E-F19B-4163-AD1E-67F47537129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7BA3AA-FA93-40ED-A5F3-E64AEDFA6CC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551008-FF72-41BF-AB3D-9ED93469FA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56DE-8606-495E-8179-B4AAFAF0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6E8-9EEA-4C4A-84EB-3E154048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4DF49E-7135-442B-B924-6FBED8331A7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637D62-0B39-4D80-A0FF-59FEFA04CA5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5DC8CE-2B94-4126-9B19-354A97BCBFE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325DC5-7A87-4BE0-8959-F5D2634EBD7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8E143B-7948-48BA-BCE8-FF0BECC74AE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5A355-8E68-46F6-B632-DA056E47958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22CD1-7183-4515-A59C-1072782F0FD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223C6-5565-48AB-8F7E-CB2D819B98B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5F80F-EE0F-41DD-AE8F-C1528E1C7F1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3F81C-00FA-4EB4-9D92-3161407FA1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3BB-88DE-4144-BECD-0D7C2718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DFD8F-BBB8-406F-BE5F-34BABC27CD4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14D29-5740-42D7-BC57-3DC46D736C9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8BABA-A485-4E24-983A-9EBC67A1325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E57F8-8120-41BD-AE5B-B15E08C2A93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F5AC4-DDFF-4DA5-BDDF-F6E14D5A481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442C1-10AD-4EFD-9CB2-6AD8CE20888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2E4B1-EFC8-4110-ADC4-05E0F0A3E59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915-320C-4865-84B6-F66965F5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F9FA4-5B40-47A0-AFA5-EA710A463A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30F-67A2-4991-99FD-15A2EEF2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2F412-DB5C-4CAA-BA03-3E9D328BC42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0C815-B72C-4BE7-A8B0-D80DAFAE5C7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B64604-0919-4E64-A532-25166215FC4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652A33-84B5-4F23-BB03-5D33F618F28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C0FAD-F9ED-4A47-B5C1-6D103433DD0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CE7365-25F1-4A4D-99D3-41765261D68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EA647-ACFD-4F9C-BBAC-8B963DB0781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CE27EE-7961-4BF8-BAC5-A610741A51A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83964-1657-4DA1-A725-654FF0AB5C0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D47E81-68DF-46D7-8B7C-9EF1592098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F4F-DCFC-4B25-B313-3B239E5B92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A39F7-4B75-463A-8EA2-51963B2EED3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369C73-9428-4962-952E-54FD4136F2B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A143F4-571A-460A-82C3-03522348347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565715-8344-4372-8AEE-36B7C785D9A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BC2BE7-57D2-4810-B264-7456E9444E6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2C5B53-D78F-4ECB-B78E-9F1E82AE9CC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E6330E-2746-4C08-90BD-EE0C2DFDFB0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94166D-641E-4FB6-BA06-AF85DF3FE0C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EC7DE1-163E-48B9-BAD9-9018674DE31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75C10E-7CB7-49CF-8C75-4D533D700F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52714-1C9C-47DB-BD9C-0B897A57E6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1DE933-5E63-4285-9484-27E472D8B89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99D270-C842-4CA6-9797-7D71D09DF12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4937C4-873C-4B9A-9A2A-5CEC8B56741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35DEB-010D-49A0-8895-AACBF352127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C5121-902A-4BD3-94A1-B474F698CCB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0D69E-C03D-485A-BA82-C6644EF6F0B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D4300-9244-4234-A211-F67258447B7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7C70A-EC15-43CF-BBBD-F21D54F1DB1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0E37D-EA06-4A9D-A59B-E6BF2BEA0F8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3DBB6-5137-4622-B6BF-76330F75FA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F9397-926E-4661-8A81-2BE5ACD5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E4DE4-29DE-453B-8936-D5A586D7117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E9A50-364F-4180-A66C-49601DBB682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0A920-ED03-47F9-B4F8-4E401CD6BD2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E3E15-65B4-473F-A7C2-3C93E84C157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F1DB6-1F36-4172-AC27-99D461C2BB4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23B90-60B7-42A0-859D-78A18ECBBD2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E2CD5-187E-4887-83F2-2909201CBB7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0F0F4-C98A-4DC8-991F-FD41DCF593F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5EBEC-3591-41FF-BC09-85D4D6312A4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633AEF-0FF5-4B5B-A999-782F53F9FD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82D4D-0F58-48CC-9263-DB7DAC09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44915-D5D4-40FF-BEC9-2F883B63DD9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15C3C-6D0C-47FA-95D0-4CCBB1B38D6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683965-2403-4515-AAC1-82B2A3A7B82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C0216-F1F2-4481-9B77-5F2ABFA0B62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F1D56-0CE8-447A-B469-1634E7E9322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EBBF3-807B-46B3-A324-DC00F66E58F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104E70-E7F0-4757-8690-FD5BDAE1B9A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AF89A3-5E1B-47FD-8DB3-84EBE630223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FB79C2-204F-4CC9-8128-6D7CC45E45B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1E493F-A31A-492B-A018-357A077B86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4A999-A24A-46F4-81BC-48E5FB55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4F712F-1A8D-488C-8C5C-7B138ED979A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261446-6633-4B5C-809E-4C2E0FD79DB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721DE3-4B4E-4765-9939-4358C952044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6DBB98-9B33-4AC8-A824-F93A8112B77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F65A16-3C8F-4C9F-BB28-1A0DCF21B1F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5F90A6-DB10-418F-A25F-DAA795C1C59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5DE592-63DA-4DE3-B2E2-E6D3E552E33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E26D8D-72D5-4518-9282-2E53945FC16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863033-13EB-4AF4-88B6-49A334EF0D1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76F04-DB77-4498-B13A-4B8406E497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C5962-C70D-4093-A793-F6F2EFD7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49034-2E94-4E9F-B99A-0EB2FA3AA6F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3CE69-DA6A-429B-B26E-C7C6355E7B7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ADD87-84BE-4F82-B806-0C32445035B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65DD7-99BC-4B0C-933D-1AB87800FCD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699D8-31D1-4485-8D79-19C81FEE124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8E3CF-9329-4D03-843D-2B8CBB8A719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90157-6ED2-48DF-8F6F-C9C949A5CC3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9EE52-6177-4336-BAFC-A19DE0DE57A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E9D3B-B550-4E11-A065-3BC8627A345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4D0AC-102B-4550-857B-89539D4749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2807-0435-4E39-9C65-E3677A46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85A54-30F1-4661-96F9-047B5E9B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9260E-EE79-4A67-8AB0-9A21CF1A027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B92248-48C8-4261-A627-50963AF789E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7C3093-04A8-45EA-9470-35D61518990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B0F35A-630F-4D66-BCF1-D4FEB79CA27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C4BDEE-E865-48F5-A346-244B11AAF5A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C29A68-5FB6-4992-8013-40D44E3F5DF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4539A6-9A54-4872-A32B-101E0E325BC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3497BF-ABAE-46E0-BB76-A6A2602D7F3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D5FEC1-AE4A-4A64-8D0D-71089E6305D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67083C-D068-413A-9939-81B444087E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DDA85-CD11-4976-8CA0-181B739A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0BD586-E8D2-4F94-8379-C954A1536D0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C8341D-6D79-4025-92C1-931120CACF8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23A93A-2AC4-4A52-91CF-0CDF29FF4689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BDB925-ECD1-4F51-8BA9-FED782BF67AA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8A35D0-9B5F-46CB-B6AA-63F0AE9EE5FC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AB60F1-66BC-456A-9FDD-6BB5449C2BC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2CB0CA-2CDC-49E6-9D11-52ACC57541B1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E047CD-A26C-4211-A3F9-43F98D099409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613DEC-5D48-4629-B842-23D6ED7C64AC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1645AB-7DB1-4F87-A2C5-08ED64BD5E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F945E-E88C-4A41-964E-D3C447A3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975E1D-0F23-47BA-80F8-9918FDECA271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8783F0-9D9C-4CD6-BC7C-7509C38ED1F6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3231D7-DBE9-4148-BE5D-FD8D65F35288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9823DB-416F-43EA-9728-71A8730EBED1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8871B4-FB22-4CA5-B379-23D88B04786E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03D98-2462-4F05-9C02-1DBE0EE65B36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85B63-A084-4004-8691-10216BDD969B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C8547-DDE1-4C5B-89EA-3DEC3C2ED421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D4A68-0480-4FAB-B2AC-FD2A6602239C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4288C-2E05-42F5-8405-94F17BA3E8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ECCDB-765D-437F-9462-8631BA72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21613-3EA3-43DD-9968-5432B0E4F4DE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8CFAB-E80B-43BA-9D77-8779E1A406EE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415F3-3CCF-4860-97EA-6783AD390ACB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C47F6-D760-4DEA-A973-D16A73F171F0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AC391-D83B-4AE5-AA2F-20F91931CD64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2E7F2-D679-4DC5-A184-312774CE9F67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0D4A3-8DA9-4793-BC18-F16C94B6F26C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4F8466-78A7-46A8-BCE5-92CB1D161662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E23C92-F2BF-4A00-8B50-E695EF977D06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7145E-E08E-4658-92E1-034A0F37D3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E8686-79FE-473D-8EE1-81D5D5EC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36ED34-46B1-4AAA-ACF1-18A5CE3E13CD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3A34C-387D-46A8-AD39-04569DE5603D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B5C3AC-070E-4D8E-B48D-214EE61886A8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87FEA-9DE5-433E-95E4-B916F2340F88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5BDC64-1127-4A8B-B9B7-809CB86A2B9B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EB1470-8516-41F0-A6F6-5C5E6C96E147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C523E-3AF1-4CDB-AAE2-53088D793023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1B93BF-7DAD-4357-8A3C-4630EA947106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C29766-A81F-422A-97F3-2FC8A83570BD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E94C4-3756-4009-8F3E-C8B578FC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98425-0B5F-431A-AA7C-446643EF32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303008-4D32-4D57-B0D4-7ADF69519191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34CB31-9E9D-4115-ADD3-5EBA11F04DF1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98593E-8747-4439-A8CF-F6ABB5E35254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EF724A-0FD4-490B-9E2C-C07A87434EFE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8D701A-7628-4E7A-80E0-DEC808BF1A8B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BE5611-5871-41CF-A14F-97B48518E6BC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DDC468-AC49-48A1-A405-AF557B3D70EF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39461A-49B4-479B-8768-8F29210833C0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3D1A50-D7BD-4FF0-9648-D593BA682C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17FFAA-44AA-4D98-917F-E963A7628B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F9EEBF-6E49-42AF-A9F8-532146001340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82A6EE-62A8-4DB8-816E-0144D7BEBBAE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7BD1AA-2C20-466D-9395-5470DC807B5A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0DDB1-582F-42F7-9655-3EE6D7CB5186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56A84-FAFA-460E-AD5C-B64B06E69F8F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C1975-9541-4DC3-825B-07E35DA2E09A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93705-1C83-44EC-AB41-5F380EF70989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A06E8-1CD5-4987-9430-23EC3D5C395B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FC724-D391-4E10-8E0F-CC715C19C8D6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712AC-2CA4-44E1-BF95-B057813E05C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4ADD43-F187-4EF2-8E03-752C1CF6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04338-6E96-48D9-B1AD-9E3C964A90E0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4F6A6-3BDF-4F03-BAA4-F959A9F50ED7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ED2C5-79C2-4E24-99A1-1612F08218B6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96C19-0D8D-4983-842D-74EA5EFFAE1C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CE9CC-4FC8-4C41-BB28-5FE2BE670523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D6BBAB3-2113-444D-A65E-61AD8EFBD21F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5AE9FD-356A-43F7-94E6-09A2E5F2C6A6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A4F10D-4FE9-4BC0-956D-57A246B9A6CB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BFCFC44-4790-429E-9CF5-865C0C966E9F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ED7E6E-5AD7-4529-896B-B54E445F12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50048C-09B6-4082-A541-F3C95D4B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1E1C73-2EDF-4325-AA90-CD031963E275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4F508A-2915-4385-88BB-C7AA03D491FA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63E444-0915-4B89-9A79-7C8B87CC85BE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4101E4-5B7E-447A-B64C-C50312E8585F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435BF4-0071-4344-A3BD-CCB39C2BB216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D164FD-56F5-4A56-B216-9A65B001B684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5A511E-2C9D-4B62-BE81-E2C422E84E26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25CCDA-7EA3-4AE9-9D88-7358CE907378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A970EF-B1BE-4562-9B10-C81BB767B2B6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A8EF2B-70D1-437D-AF89-711CF0CA5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8451-A5E6-4CDC-B57B-8FD4184E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DBFA47-18A4-4A19-9861-1B6FED6F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29741A-17D8-4A5F-B4BD-8A2FA72459E1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82F309-94AF-4F06-AED5-6D03DDF955E6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F2A5F6-4CF5-41C0-BFEA-E8E1308CD84F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672B71-D02A-4E98-A564-A0B85AD6DA39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57E8F5-EA76-4561-AD24-9C25DC8FA181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6E9415-EE61-415B-B0C9-F7228EB8D31A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B67B1F-99F2-4282-A12B-EA32B2EDB503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CF842F-2CF6-46CC-8238-DEF3A8FA6332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4C54F9-657D-4192-94F4-8A7237875F3F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38419-3AB2-410B-9FDE-2F99933DE3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990219-BC70-48E9-AB72-A7E2BD37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16E3D-AB36-47C1-91B7-1B3B478BE8B8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321C6C-C6F7-4F24-B49D-F8844E5096C8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D2D4D-C34F-4E81-8938-29B4C9655875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2FB65-5B6A-4AF5-8E0C-559B6A72E8A7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2FFF6-4584-4F91-9636-F922CA965933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844B7-A09B-4B60-AB99-9ADC9402B505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4D108-E0B7-497A-990A-FF748DBFBAE0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5C521-D172-48C9-8787-F6270EBA0B67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194C8-E0E6-4DA1-B00D-C70B0BBFC28C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67CBB-4E83-4CDC-95D1-4B0C265C49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6378AC-6347-41D9-AA6C-9F39A6B9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A2A54-92C9-4FA4-A9EF-C79FA14ADC27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268EEE-C31D-415E-8BF0-3C9DDD569D84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25E53A2-7BEA-4AA6-9195-7EFB286B8455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B65C0EC-9B83-4769-9EB0-83DF6B91DB34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C1BD851-8F83-424F-84C2-8AD26C1B29C2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37FE041-7B54-44E3-836A-E2AB6F0123B5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8A7852D-F412-43AA-AE05-849A907D2BB2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E6CFB2F-092E-4BD3-9476-F95F61E7FCD5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18AAF7C-83A5-4BF1-9813-82B7E34804EA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8E78158-5F45-492A-8EB1-F1521760FC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B2386F-4118-48A3-B8D8-F22348BA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846E3EE-8640-4420-8717-8FE1F7EEE49A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56144D7-9FC4-486B-949B-E65A113B99BA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2DA4D1F-526C-403F-AF88-156BA6839AEE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A4CF31-88C0-400F-8AA5-FAD853895FF6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5542AE-12C7-49B8-B497-716CB7529049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B7392D2-BC81-4978-A4E3-1AD9398CEE6D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F08304-59AA-456E-9F42-FFB83CE5D67D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7BBFB4-EA69-40C6-929D-22ECF6D27131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FD3624-EE52-4585-BC88-823DF0D17B17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C7CC240-2E81-487B-BFA3-CCE143A764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905E68-B790-47E0-9DF4-EFCDDDED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FBEBDE-551E-4872-B967-61FFAF042C90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EE64A6-C323-4911-8E65-74E93A64AC8B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26404A-1CBF-4784-BD04-2D95A0413BA5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10AC9C-5CB8-42DC-B588-AB59E65A27D6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676D90-57D4-409B-8562-1F149C61E0DC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C1CAFE-551E-4551-A886-64EFED7C0A14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F3F94D-B5E4-401D-A275-D0FBE79FBF39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603D0-96EE-45D4-995E-5842E3F1BF4E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F85B1C-1CCE-4B35-BCA4-871931850A6C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5E3EA5-0E0F-4344-B4B8-D02CE84980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912C4F-97AD-4A64-83FB-B321B2FA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C4F1C3-DCC7-4D3C-A078-5E422CCCF7BC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882DE0-E5E8-4975-A156-8551A7B6071A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A0D660-ACCF-4585-BC5E-79A621FD5D8C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8902E2-1623-4E85-B80E-74F7B3469C68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571C6F-BC7E-4032-B927-C8CF435CD6C1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D4321E-265B-4DE7-A90C-1A4970627CF7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18B05E-13C5-4F8E-9B27-9C15D89092F1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ED9BEBD-A89A-4B6E-A5FB-A88A25E56F74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1CC79EE-AD1D-4BB8-B09C-01046EB2A09E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2541575-0794-4C5D-BDEA-177E0BF10B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22BE70-EDFD-4193-B211-852E18E5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5ECBBA4-D419-47A5-B524-392E31A5B8C3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961F6A6-7F4B-4938-8C9F-F8FD73E1D056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8141D9F-9802-4D18-8B3F-FD73C520D101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700F9A0-1645-4096-A454-374F3ACE56BC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8997A68-3D23-415E-8834-50793FDBB0C0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B45F58C-F24F-4DE6-9353-6844E9ADDDCE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F810805-4179-4528-A945-429E35FA6A96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66963A3-1C88-4671-8A57-D23FC524E1DB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B40A0E7-3B66-49E6-8151-6D02971261FB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D50E5D-439C-413D-A798-40821C3074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78BC72-25EC-4D68-82C6-E5443010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7BCF25-5BEF-463F-BE87-24ECA0386666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3AE0A1-8609-4775-8559-335C42B08605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7D1E18-3203-4AD8-84B0-99A9DB0C17B5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66329C5-A217-477C-ABC8-44D9B6B9C1EC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F74522E-E02A-4430-8772-0B9E8C10CCD6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A7CB46-AF9E-4FA3-9E80-8B01E8547F08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0F2DB0-8551-4B5F-ACCB-CBEFDC0064C8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506E12-EE62-4C67-877A-369BF37D9DC2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C9B15D-6DB1-4B17-88F0-0B9B26A18964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FA31AD-BBED-4B7F-9A82-0D90459EB5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E50FBD-360F-4EC9-986C-D9747850A4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289269-5599-4D96-9DA9-0096412A7ACD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1170F-A39E-4477-BF9D-3F81DEE2F6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039C7C-3BFA-4AA0-8CCF-9060882A20CF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E74FA7-17B7-4BDB-A4F6-10DFF0A44E18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F84637-9283-461B-A0BE-90C1AA91D7BA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7C8407-2700-485F-9BBA-B60BEA9AE352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1A668D-13E6-4E63-81AE-55FD13F39F43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D1D02E-0901-40AA-BE18-C502C9B238B6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1D165-3E70-4354-89FF-BE1978003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DA8E-7482-40C9-823F-7DC5DC1F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A1A8A-00C2-424A-8F0A-D22F10FC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FF447A-659D-4CFB-846B-BB8F721F41D1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A5EAB9-F5E0-4D12-8685-B6428B1DBB42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3FB891-10B8-41A4-805F-DB1B7858D937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7C0B3A-2F99-4811-A20D-6D9D7F9ABAA0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F40F55-60D9-496B-92FD-301049BBFBE3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DA6CFBC-17C6-4B20-9B17-DAA9AA0179E8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DCFFC76-360A-45DB-90C9-3C8CE12C10E0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D2F1DAB-73BE-4511-AAF8-0FD9B0339E0F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54AFCB7-EDA2-4C85-9979-BC2E0394F000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6A0C449-3213-4202-B1AC-3DA42AD7C92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21C36-9BD3-4B0A-A783-7F356CFB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3AF191-C2F8-4B1D-A2C4-B323388C33D5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4F772C4-C6E8-443E-AC23-54DD761DA748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4A9D2E7-0DCC-46A5-8247-3FE99AB1FA16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0B33E19-E1C0-41E3-8663-EF8536677357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4FEC352-DEC6-4A6A-8467-63E2693AFE18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475DF09-C6FF-48FE-B89F-A3CFACBBD03C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1723661-1224-4FDF-9B89-CECB53AD797F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97BB22B-4A0F-41E7-A219-17CE56B4764B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F45922-9A63-4956-A56E-8B51B4A21967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59858AC-CC71-43F1-B0DD-33DCA88A0B8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4B7B7-9E28-4A9D-A3C8-1E64D4E1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8F6A92A-27AD-486D-BBEB-F0CFAAA4965A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52C4966-F18B-459F-B7E0-DA1E35E37D86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FE6E51F-8996-4FF5-A358-7920243C6FDF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12CA766-5815-49C1-9203-7A1472C1473E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72EB1E-5D0B-4CCC-B7FB-07289CFB9721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61BF801-7FE4-4CF5-B0A3-4204F0598DC4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0DE214-ACCD-481F-B0F1-4FA657894481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3BFA76F-830B-49D9-A82F-72E2C3313BB0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EC8D47-2823-4D28-A7C5-FBE9C9CD0C66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A4B321-BE48-4183-B43C-4317AD82F2A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105FD-87EF-4C64-AC06-7DD8790B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DB9711-9D3D-4640-8C2E-20E87D35532A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6FDFE5-5ED3-4524-A570-D73F73A74310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176B69-F852-4D97-BBAF-8B9BE07C3FD3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7C5314-5082-49CA-B746-436FDFB820C7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263013-7BCE-4727-9FA3-1F39B5BE26DB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7C3E0D-6C22-4688-A1F7-1366C2F003DC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B3F490-46D2-4FB8-AA9F-FD1F29272600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1E9BBC-1E54-4239-A163-86B6211B20E4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0E1FCF-D736-4E1E-8910-39F51AE08FE9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6B829B-0140-432A-870C-C980DA60D00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6E3E7-1429-455F-89C0-5086A8C2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61D9EE-B876-4AC9-9C72-59B572FC6156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CF28F0D-5228-400F-8241-2369BEAC6871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9CED27D-A5D2-4162-8B11-4E1CDD3B6F41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BC92F52-0388-406F-98C8-FB42FEE22177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CF067A6-153A-4D05-A53A-B7FCA9DC3D8F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EE91B85-6695-422A-8021-5C901E04CE03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752C511-2228-4E1A-815E-25B775940EE3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6255E95-1A3E-489E-9EBF-3E97D10626AE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AACF245-9DF0-4111-A4D6-9368292C2950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9EDCC67-FFF4-4B2D-9FDC-EFD2AA2C703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6646E-3157-4664-91CF-7366D37E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7094F28-1E0D-45A8-AC50-3C8DFDAC29CC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7A1E162-86D0-4E20-921F-AFACB4DF34E5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F6C3E8F-0F9F-4F17-A283-1FC9041A6A96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FFFB324-1761-43C4-8889-2F25F8DC1CEF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F6F3C33-095E-445E-AC61-E318CE616654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2E9153B-5D17-4C82-8426-B9C55F37CC82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0D1E44-98E0-4727-8A0F-290D92F76690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C378F7A-D817-472F-B8B2-0C212C819B67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B4ED7EC-7CA1-4BE8-A761-A11A4C959F08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050E01C-BDF7-4483-A781-0203169A77E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8A8BC-E70E-4412-B21E-F47C1058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E8F09C7-1B4D-4599-B914-F32892C66345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7398275-D5BD-40E9-BD41-145ADE3692AA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9FF3977-DB93-4207-8DB5-51ABCD790174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39D1E27-5682-4E36-A8F1-87742E650774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477AF27-B6E8-4EC4-9D8A-ECBCD414E154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9BBA73-84E5-4084-99C7-9B523C6E5068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69737D-5C45-4D60-AB1A-3E34C46DCED0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9912E5-5972-4EC9-8B0E-50BE62F7C571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949395-C6F5-456C-8546-BB138C78469D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D5F9FB-84E3-456D-9001-0B02C9078CE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295E0-D3F8-46FC-8954-F11C0BCC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6F7F45-5BCE-4022-86BE-9E1541581B3A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37F091-473A-40ED-B51B-129B33670536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1A60B6-DB67-4F92-80C1-2F068E97B25C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973EDA-7057-4510-BDB9-D6BCFA23E177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516949-ECBB-4BC3-964C-E8744504BCF9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1E29AF-CAB9-4FDA-949E-85327986E11A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6075DB-E7A3-478C-A408-0E12D16C7A5C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70414E4-CDC3-4233-A140-3D2A2E7A0794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A969C93-E12B-4FAF-A2BB-54C191B1E590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49EA8AA-04F9-4C6B-9F6E-56663C704E4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773D0-5180-4A7F-BADA-13977971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723B67A-4A57-4592-8970-EDB0FF4F7E08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A9577A9-7A51-478C-98C2-F4765B0A9A2A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827616E-126A-4699-97DC-6CD31222A748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6CF4891-FBCF-402F-8FD5-B3F902D46C42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71C364F-B4A7-4460-BEFD-169B452EE47F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92277A6-1D6A-481E-838E-230D305614C5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3A1ECEC-8AC8-4D19-A8E6-80188CB5048C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BDDE427-E54C-4BC1-B077-374C11C695A2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151C4D9-9BAB-41FC-AC4E-B73F51C8C68C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92291A1-FD44-4BF9-A976-106FBAD842C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C229A-CD0B-4590-A978-21CCFFE0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A5AF3D4-3648-46E0-A8B1-FAA6EEC6A101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4A5E32B-A2FE-482B-A811-059F16EAD57F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5316CA3-9FFD-473C-8B36-6337F71D6EC2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2C6AE26-73E0-4CD5-8450-E28E1BE84840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6CD5E75-AEFC-49D6-8503-E588E4E3BE74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4A99ED0-F425-47CE-8804-6D04C0D18D99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D74506-5A31-4F73-9026-518207B53157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543AC94-10A5-403F-80C9-55DCAE85DA3F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5BFBA6B-5EC9-4C64-9B1F-03D3231D416A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5E19F2B-8E2F-4269-A6DB-754C501B9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782D-03EE-4AE3-BF7C-DBFC23A6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134C5-5F02-496D-A4B1-58E9DDEFAD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8BC0800-4657-436A-82CA-3170BA1B9109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DF6DFB-549C-41B3-BC2A-6BF9901F4903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43BFD2-8523-4C22-8BBB-60A5B2AA6489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ACAC31-8D3A-4E3C-9BC7-C6A47A0441C4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3B341B-6683-4801-98F4-8FF9D6D26F1B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0A611E-B323-45CE-ABBA-0B7AA5DAF2EC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79B426-C489-4338-A30A-1A1B77327A70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57CA5C-1802-4DA8-95A1-0969845A4C20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99E630-CC33-44E4-8FE2-B89772DB83B2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3FDCD9-49BD-4427-9D33-A8FFF1CFA96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2BBA7B-CD4E-4363-9990-72CD6427D1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C5F03E-F3EC-49C1-A27A-8A7516DF53DD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353633-E4A7-4D73-8D62-72585AC6BD9D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E4C041-5BFB-4CF1-8F7F-38D73DE9C333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B3382D-8AA2-4386-BE8A-B2456789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4B50D58-91EE-4BCE-870F-DDA3BFA64675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75FB4C3-9D56-4884-8191-A4522937CEE9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FA5C4B4-A743-4FDC-A6E8-71070E40E9C3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07C4923-D609-41CE-97AF-D18FE47E1C0F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BEE9639-A520-4185-9E27-A80C302BA8C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D975B4-F362-468E-9CF3-9F81220F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350B4B0-D29E-49A5-BE4E-5A427670D1A9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55CC8AA-FC90-47B5-A848-E78735D14D49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312FBC0-C680-4546-A939-AEFD6BB59FD3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6E94674-BB60-43EE-B20D-BFA7C7F25CD0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48836D6-D6B7-46E8-A6C4-32670A04AADF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B6B21F8-23AB-44B3-A975-5B3FB4B02ADE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F9A8934-645F-4C03-9987-3CFDD6A59434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2D5D301-8B59-4553-8D21-6126BB9E7D76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5808314-2C7C-4B18-A1B3-9DFF40BF47EE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EE17544-2506-4D26-8FD9-D52D82A1693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96A267-447E-4A0A-8B71-B3A0732C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2E8979E-F93A-4B32-9062-AAC012BC6979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8B1E31E-F423-42B7-96BC-2E40FC090B26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3D2F48A-0FC4-454D-AB14-911349D47725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29B9AA7-A085-43EC-8722-F154B71A152D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31D321E-4AB7-410E-8D59-0ED0A735B75B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AC0DE65-10AC-4D40-A6DA-CB08609B7520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81BE9F0-E20B-45CD-8044-B6EDEBE4B3D6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DAA6DF4-10C9-4056-AA8B-3A11DA5821C3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F061FC6-3838-4AAA-87E8-CFDF929F1096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8927C0-D75E-4500-A258-A5CA0721FF3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1B9890-5BD0-4AE9-B7A4-4E883025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9B29AC-9735-4E8F-923C-9A57303211C6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3EC469-6BC0-4AB5-A560-334070CE6949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E72514-DBA3-4B36-9437-A258F0FD5FFF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150413-ED08-4C21-B041-70CDC8222189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EF03B4-2314-4EEB-B88F-DBFA78E9CC38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131F01-7B58-4841-9FF3-7000B98EB4E5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69C54A-AF4D-4CB9-AB94-8893D7025607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7E6AC4-C504-47DB-BD33-174B4E8922EF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8E5DBE-9877-4EAB-809F-7DFDD960394E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E57126-FF35-4544-8D21-A40AAF1622C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3C8D46-06EE-4CF1-B817-73D2D252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F7EF18-81C4-4297-8F8F-0CE581B35931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145F078-9D52-4607-94FB-6D4BB5D3D37A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97E4F29-90FD-4F86-832E-BFC2DC64D934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818D15F-2558-4B3E-9751-4AB719BC7F50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0E9EC81-8A4F-4B1A-B6CD-29A9B0959694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BF564FD-2593-4E6E-923A-FF7855215074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0EB50BC-1E65-4F4E-A1DE-7CAC58B743E4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C186FEB-C27F-401E-B4C8-8B3730DF3A1A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3A68648-578A-441E-83CB-C53A60D6BA17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94B04EA-64FD-43EC-A350-0B090D10C32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1969D4-CA2E-4BA0-B036-2022374F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CCA9D3F-7A1A-40D9-87EC-243E1FDA1B06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1EF5BC6-0966-44EB-BB38-E7592B167061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09F508C-6C56-483F-9ACC-CC6817CF9998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B1DAE45-FAE3-407D-B0D4-F156AD7CA012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7CBA859-E145-470D-8F0A-5186AE28E026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0412F2A-072D-46CE-99C3-46ED75A2C267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7F5D5C6-A99D-4F5F-A5DC-790250450FC6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26BCCC7-4336-456D-B74B-F1841D2D9169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DAA978C-C89C-46E1-85CC-73F6EAE16FC0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53AA4BD-96B7-44DD-B996-123F164A2DE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1C68E6-7CCB-45D9-8BC4-DA3D66B4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A05D45B-F653-4610-AD6C-9267FDBA4D19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CDD9C8C-B085-4C10-9C5E-BFFE44825241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CDF212B-1795-4675-A0E2-6C742803201C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B3145E0-B786-4E1A-B30E-3C7A0A321FEE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0691727-A72B-4FED-BED3-C2CA297C2E3B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44C06E-3C69-40F1-A14B-0078105469F8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410ED9-2C06-4F8E-9A9E-5F37CB15EF4C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1F9360-544E-4ACA-B99F-DA8FFA776691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5F7E23-19A2-417D-AF6A-C405EB05E346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EC13A4-18E5-4C4A-9046-93A1759D2C4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A2BE48-5FFC-4B36-8BD5-0F003268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4AC8D5-A168-404F-98EB-56464BA1DE24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D6CD59-9FFD-42D8-B88E-D0E637B364AA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10F7BC-CF52-4B37-BC4C-DD8110C2A9CC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F1FFAC-3E91-45BD-8DA6-8849FB00789D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8C1C44-FAC4-49AF-8581-6C7709CBE721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FC21E1-812F-4E6C-ABD0-18BB34DD60FD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547AE9-DAE5-42EA-A5A4-C2B4742EA021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1CA0853-4412-40E1-BD02-5CEF2F922E51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529EEED-FC28-4408-804F-E4FDEF5E5C07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82B05DE-D617-4FF3-A4FC-C35EA1016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FC21-37B4-4E16-936A-E71EBD11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A9EEA3-B284-4799-895B-8CED5DB1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2F11EC2-24CE-4A85-949B-4E6EDC57F9D5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2D20B6F-2558-42A1-8574-32AED3E46CA9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4FAE758-0757-4D8B-AFC9-43073D626568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935DBF1-8D7D-4466-94A4-D1B0BCB377C1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DD67E30-70E3-40D3-9F27-E3CE05C0929A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04653E8-A8CC-4209-A249-D209035704F5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9636CBB-AF67-4B9E-B4A8-21771281D221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6667483-DCC3-42E1-BDA7-AD799F90C0F2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86EAE05-D2A9-4997-8C6A-D4D2197386E1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E90FEAE-646F-40E7-A803-6F95A21DC95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ED3F7E-592C-4FE5-B576-9D8FAF20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F126C4C-6FCC-46F9-9390-A91C2221C959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8C2D0C9-D5B3-44CC-8CDD-9A11405C9A97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8F1D7EC-7658-4E39-ADBF-1F883DC12180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589D043-08A6-45D7-8A07-6B79DD2C388B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44E591A-F441-4038-AB02-5F449DC1FAC2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96D49DF-5C8D-4E0B-BFCA-190E57DFE611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6EFD35F-7B16-41B3-9A0F-E3104D636CD9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296EEFE-5CB5-4499-9B0F-E031CA31ABF8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9CD7535-1331-4B13-8D73-5566BCEE6449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146DABE-11A7-4E1B-8D96-3A3B238E99A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CF4C36-ABE6-4260-ADE8-FD330917F6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0960417-5625-4FC5-86DA-813012B55805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DA854B-DC18-459A-A196-A71A8CD742E4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12285E-FA26-4F04-B0AD-CB96E1A0ECC8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85DE0A-D289-415E-A6FE-26AD4C14814A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FF37F5-BE27-49F0-BD86-32E3D340F043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0FA2B9-D2E9-4EE8-918C-27EFC4A760BF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3A2D81-83EF-43A5-9CE6-DAB40DEE1C1A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B5D5E3-C4E8-4F97-A26E-D2A87A0AE04D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087A69-0BE8-4D40-BA95-118D2BAFEF9B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8DE6F7-AE67-4125-98E3-4CE08B39D05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941243-B343-42DC-B4D8-9F0B928B51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2C2982-7AD9-4A11-95C6-9AA7A368A6A3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6CF85D-14AF-4BB6-997E-6A1233EF97DD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385E56-AA43-4593-8BD4-30F9DC6585A9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340282F-196F-4BF9-A451-07FC5A2547CF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F7A1D5E-CF57-4C33-879D-6DE9DF2A3B3A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3128E74-FBFB-4E25-A1EC-AC048AD9C870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2CC49A0-A12B-4DEA-9CD8-AE9F1BC13E4A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7EA0E73-3E07-45F6-A980-72681191EFE0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01505A7-AA30-42B1-8C87-F4D36571FF99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D439CC2-633B-48D0-A8C3-16AFF515737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AC9AEB-A352-4E19-83B7-D24A6C1D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D66317E-0478-41B9-B99F-B6D18D5DCA13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5CC3399-6F6B-4D1E-BDAE-611E98F9EEDD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2D1A8C3-FF41-4943-969B-06B2CE8627F1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B266A5B-C20A-4B63-A580-C94D8538999F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424D7D6-1B48-41BF-AF1A-9A762361AA29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2DF521-73E9-4B52-8E52-57EED8FD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7F7E7F0-5E45-4C0B-A82C-538EEA0FB363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5D0E814-72AA-45C0-840A-AF174E3417F4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19FA1F0-A865-486D-85F7-6C1B89059A3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2F8181-512C-4060-BAC2-BBE21D1E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75AD086-E505-464B-9939-DA7E85EAAAA6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8C09F74-8616-419A-B707-593934BF5D2C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635961E-624B-4D0C-AAA1-B57C4E35139B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C09A2B8-10FD-4DAE-8892-7B96C0C6248C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4F69C96-0CAC-44C4-A32D-2F6BFC400F80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B61B2A1-4E2D-4BF6-8C51-2CC1484ACEB6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64CC1B9-9F9D-4FD1-9ED4-36CF0DF8BBEE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D8D12D0-A59B-4ADD-826E-57FB08A21A59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1D6FD76-873B-4CF3-93BF-42685A727DD8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87D079-16AD-4ACC-BD84-46C07E69E93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1A0204-1C25-4CBF-AD12-0A3AD2CF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28DC1D-0983-48E8-B54B-8AA4C43CED93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45E5D9-1735-46DA-84F4-F6559E6F475B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99C674-03B0-4F27-81F1-138AC77C4973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292F68-F8EC-4842-8699-658425D079CA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A4B304-F09D-4890-A4BA-B544BB30ED75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273A60-5506-473A-8950-47B72FA6740F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CAA0E0-402F-4DFD-A3EF-463813E99554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2CDB02-B69C-49E6-B3FE-1D43AB59F4E0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00B4F4-1138-4DC0-98D0-D428A21753E8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6E25FA-57B1-4141-8FE5-C5EFDF20333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3F4565-FE5F-4F32-BEFC-03171930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4612A8-B72A-4E53-BC18-5919BB3EE0BC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272D803-D0D9-42BF-B193-66E4CC300793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EE9A1F4-91C9-4344-A954-5A0EBBF37C5E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E2EA6A7-B42D-4CE6-952C-147AE7BB8C6B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A63C412-4EE6-4326-9CE1-8512EA0FCC03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B585B3B-6865-46E3-9F7D-1BFB66869872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3444F90-34DE-484A-A603-892B444E1F3A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6E6F397-C307-43B1-A515-C246152E77EE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EBB59D5-9655-4894-80AF-FA90FAA2D6EC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053DAF7-5942-48A1-9303-86B17DD25E4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F75D40-47D5-42CC-ADC8-096CE08D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012932E-A39E-4F66-B4F6-B2B192FDB89A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4EE61B1-D715-4B3E-ABF1-E11E4C5FFEC7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8A64A91-039A-41B8-B180-B5D3C3F4509B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22DED5B-2909-41DE-8BD3-7238E47FC051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291C9CE-B533-447F-96F4-F41EA3DCFC65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13450B6-32AE-471F-9FF2-637986B4FD66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A757793-AB3F-4778-BFC2-DE7F75366B91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6A54293-D0D2-49A6-AB53-1C505E48090A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0F7F8EA-8154-45D7-91CE-E8CFE51B6F06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AD47D8F-25AD-4588-A197-A41FDD5EC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170C-E176-4728-8033-A5423262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744199-0288-4F1A-B345-C0140218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9AD4112-1CDA-47B3-89F1-D860DB9940F1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E803F92-2DA0-47BB-98ED-A8A159E0772C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EC80564-B4EF-4A04-94F1-166B489363CF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E6FE25C-343B-4A9F-A61C-C8B2EAFC723A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3FB42AB-BC6D-4EEB-BB19-A5093BA1814A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4F47DC-17D4-40E6-8F57-6E720A93F895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417117-B9B1-42BA-A563-189EC1091C5F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4F098E-8045-4671-AC76-E3826427E205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C6FFE6-B11B-4398-BDF8-DC66B76AB389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61C226-155E-42A6-ADB5-2102DC81977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4F460A-A720-47C3-82F7-6D1600E4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E72AAE-B37C-4006-9A7E-374C7596544E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FED904-3199-42A5-889B-CAB01F9ED830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9E14E8-ECA4-4D8F-86CC-94E7F6DD3404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27E488-3ED9-495B-885B-58E5E5F2655B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355F78-1008-416F-AF23-A63CD5118B81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CDA006-C706-4354-B5D5-1666A445AF4D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EEF472-CAF4-4A32-AF81-4F8E396027EA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D562398-AC76-49D4-A21E-589AB078D262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E018436-29F3-4400-BBE1-769E6777C5CA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2230D83-DE04-4428-803B-4D95F23DCFB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F97552-55F8-495E-A5B7-C3BF9B7E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FAC7F45-F7BC-4D7E-8CB9-7F762AEFCA0B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7E9195E-4C4D-4F08-94E1-B9744D97BCB6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0207044-B565-4EE9-9EBC-915BB18CD8ED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95F808F-91E6-4316-BE62-B3E7FB060980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4DD06AA-C872-4A47-BCC8-775637B60296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9CBA339-9A9A-4860-A5BC-B1F4EAAC90DE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C24ECB2-98F3-4B0B-AF60-894050154CEF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698E609-C5F6-4239-94E5-0D380B2974C8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E8FEF47-367C-4DC5-94C2-3EC9C1383205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EA3440B-3E7E-4661-BB6D-8D8D96CC49C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EE1E2B-B4DB-40A3-864D-6E6B07B0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DC382F8-4324-4BC3-AB96-90E362AEE201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8CCDFC3-0CDC-4534-A2F0-114FC4A847CE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E8EAF17-729C-442E-A4EE-4362405D1EE0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E82AB6C-42C8-46C3-8930-C0E868D0D378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EC0DFF8-9C98-457E-AF2B-0CFB8AB00349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90B07FD-403B-4230-9BAF-290A88BB4176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B13AD11-06CA-496C-A787-584490FD85FC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8078749-0422-45F6-83D1-2F23057B0DEF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97C019A-CB5F-4E9F-8AC7-1ED91E1FC4EE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4910867-0C28-42AA-B48A-2E7D68A5095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9A616A-473C-47CE-BB7B-25F42DE2E3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4B5E659-98E2-4C16-BFEA-F9C3F3B9324A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7EB477-51D0-4304-A1FA-E13D72F95F8F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EDABD6-B179-49DF-9AEE-41912F07D004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4BDF6F-0FC5-4D99-BD47-CA71E97C5C9D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B396EA-B852-40F6-A32C-A49791B43121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4BBF19-EF23-45A1-ADF8-A58F9B5B6DB6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24DA13-8E24-4059-BA18-72078AC002D2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766F01-7A19-4F89-8037-06C092FBA6AA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14684E-B7DB-4763-BD67-87D8450E6B29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91EE8C-20C3-4E50-8C54-10E3E66E89E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97B25F-B81B-4A92-B796-46C07B9B977E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1D59DF-F8BB-45A0-80D9-C15AC4B574AC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36E06C-213E-428A-82B6-396347C886AF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51B67ED-8218-4455-A61B-0BACC5F30ADB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65C66EB-3CBC-47C2-A09D-C3F46E2EA0AE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5ECBADD-95A8-49A0-9C87-48E85BC85A01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8239ADE-0B74-44BF-B29F-DF4F907D9610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0CBED0D-BE5B-4279-A421-427F4E5B129B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CAC8A94-4AB8-4184-B30F-D2D6286A1E1A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6AC1997-9942-454A-8041-072BB6C5A33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44D9563-89C2-459E-AA9E-AE8DB1565B70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8B7BEE7-A7B1-4BF0-92C4-DDE4F1F49EB4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9B303F6-546D-4003-8D7D-CD9212AA717C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30D7D84-EEF6-4CE7-A2DE-64520C29BC90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9DB7F2B-69E0-4207-85B7-B022DEAFD90F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B0E6B55-4462-4946-8564-228A5A0A3588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2D7DAFA-5569-403D-981F-89331B3ACEC4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FC99D17-7A81-4961-A1B1-A45724759611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EED8C61-CA51-41C6-B6ED-1D69F83B1356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2B8354A-E4D7-40C7-A32A-6B59318F4ED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628A8D6-928C-424A-A65B-914CBD0DB16D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ADF9040-C806-4AE4-AC3B-787E181F0264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230AFEF-00CC-42A6-ACA2-AA1F1EF18E6A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0E69688-CF38-4CF0-AAFC-7C11033D46A0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76D55C9-CA67-4197-B34B-343DF3949171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C792FE8-1601-405C-8439-44540F71981C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5A7FC97-3C0A-4821-9B4E-EA551D3CB3E6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5CC804-4ABD-4E75-AD3F-38EA31785B2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9C1321-96AB-4FDB-9D52-8E925BFBAF1F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332E0F-2214-41DA-BE50-1225B1DE240F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89A5A8-5BBD-461E-B68D-F515700A3002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3126A5-136A-46B7-8FE7-5FB0472DECA5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AB940A-A3D7-4452-96CF-03EB0801BC57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404D5A-35EB-49C6-BE13-9C9B7DC6D104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43C6B1-78AC-4E3E-8E17-A49F97110AB6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770444-9FC6-4DBB-8E64-87C8B1D8F133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DA3A83-2931-4483-AFCD-A35EC8426806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74C696-EC56-4094-9E28-9F10C8BA8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281B-619A-4179-B11F-B8206C58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55C6F8-C8F8-4355-B335-5810ABB5573D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6C8DA9D-C4A3-4D81-9D30-CDE16B82FFF0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1FF97A0-7362-4ED2-8C31-4B6985F450B2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3F0D0AD-EE49-43E8-AFA4-A8B367D2A6D1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AD44971-5953-44EB-9655-2E04207D4090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43D84A8-CC3B-4AF4-B4C4-3461B3271612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22C4CD6-518B-4EC7-8914-54BC60B71029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FFAAB21-934A-4FEB-98D3-3CB487948979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5C4A089-A773-4EE2-A098-39520ADF9A75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9DC720A-CBF2-47CD-9250-C01C457D2D7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26EE6CC-75D8-450A-B7EF-32DEC703DE6D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3E72F59-C18E-4CC6-AB5A-004DB322F2BE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25DA981-F1A4-4BBA-B86B-9574B1A79AB5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4A0B742-5B38-4555-9C3D-0F5EEBC42566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1E6DDC7-5A49-4E73-AF2A-501C69DF5458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E5EA329-F54F-4BD8-912B-7356B0901968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E9A3C58-D19C-4EB2-BDB4-3102DFEEAD6D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4968572-8926-4C34-B611-A66F9CDDA279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DBDAFE7-17E0-4B67-A1B5-10FD6BEA7551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D77F5E2-A09B-4BA3-87FE-678AF56AA8A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64F0850-AD24-4F8D-98C2-78F37E6707E1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30B5846-5C47-49B3-8972-D793F544AB30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FD469AE-5A14-42B3-8BE6-0C48AB372283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BF4D0DE-AE7F-493C-A8AF-5E4C4E7CF1C3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352E8DC-A3F7-4961-8CBB-31C4540BF697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B98DE3-0DE0-4697-A2CD-77F1B71377DB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7894E0-300B-4840-9313-3430816E4139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98766C-4DA9-4501-8B2C-2A5899EA9A9E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19BD53-DCC3-452C-9D31-FA70219A2D22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F108AD-EC18-476C-A502-6D91656EBEA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29CB70-5CEC-4E97-9490-0ED478245074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D8C767-E50F-4A3C-95ED-DB3F0CC2043B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6DBCDD-C83E-4F3F-9441-6F1A6A397CCE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0FF98E-5348-40F8-BB36-FF5E9B962B70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771930-CC1F-4516-887C-9F9523F84E10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2CD80D-D996-45C3-9C3F-C75CEE698ECA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842ED5-B439-4CD9-A5A8-F3AB8B8BF78D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1957724-C922-4C50-AA45-4AF1E007248D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3C9645D-85D5-4AC3-A963-3F558C58E90F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FA967F4-F05F-485C-8D19-F64A65E6F90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D7CCFA6-1733-4D55-AF9B-79A031D67206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6220666-DC25-4A08-BCF0-94F29AD7E7AE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23C6876-E199-4621-88F6-118E34A0D150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AD70EAF-0CBA-4454-8F20-5256C79E08A1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DCD60C6-4DA2-416E-BBD9-F6B36A026550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E92A42C-1E69-443B-A401-6813355F7C95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2B71680-70F9-4A1C-B445-EBC442358FEE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0686BF2-9D1E-45BA-B716-42F53147AFCE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99F7375-07D8-4AD2-994F-AC80D7EA1DDD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920745D-E4A3-461E-A68E-98D2C3EBE7B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A651B89-3679-4038-86F5-9E0379AD3B6F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DD186DD-194D-4CFF-BC6C-6F9CF065779F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112A3E3-E776-458C-94B8-0DD31112BF05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1C09B90-4301-4E99-A227-E58640BECDB5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38EC1B4-0988-4205-82F4-EFC1A4ADBF10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074ACE8-9823-4235-B644-12088FC4DB9A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BD39A2B-A9F1-48BB-8F34-79735480D429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C05088E-4452-4663-AC35-5954AE79271D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4932FCB-DB86-4AE9-86DA-E0EAAABB48EB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85F486C-7519-4235-B3FE-879F81A4370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A0BF57B-F902-4E31-BA7C-E139A1A46683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550DDE-74EA-4001-ABF8-00F2ED593859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D676E4-F0C2-4CCD-BECC-69C4538FAB05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1F9D23-10BB-46C8-9477-30CFC0569EA8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D41611-2F93-46D5-9931-D45B4EE97EF8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7AB853-F221-417E-AF91-6A9235AE4FC2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B06409-38C3-45DC-9757-2B7616416C09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2B9C91-1965-40E3-A22B-19B09EA603B1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6111D4-7E62-4640-AA6A-BBF18FE845B5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5CFB7F-37FA-4BFC-94AD-3C67980C836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87321-2003-4ACC-86CC-1EB32173961E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14E5B4-FBDB-4F2C-9EB3-6547F875C542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449D50-DA15-4F01-95C9-750D61D156A1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F48D76-C90A-4F15-A468-BB3522166B90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3CCE799-9BAF-4106-8FA0-C6AA6CC36452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3C36A80-F872-4D20-B939-FB2BD427F1DF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EEB6832-295E-4BD4-9050-D2C4D145571D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FB9AF65-D08E-4A4B-887C-58BE016FA594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29891CF-BBA4-4A52-BB04-1995A7345356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A806DB9-9E91-4DB1-AEC4-63FBBCDEF751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85639F7-12E0-4A6A-9C12-84F711A22FC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D076A-69E1-463F-AC8C-7BDBB58CAC9D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D61FD1D-42BD-4A8E-A577-5B91DB1B9423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72191C9-0F15-48B3-A2E5-CD5749EEC83E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36415E8-3ADE-4955-AEC1-2CE6D2FED84F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77A4DF1-5B91-49A6-BA6A-B3F4FC201D9D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F4570AB-9341-4A27-9E87-FA6CFF0BF993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BBDA3F0-017E-4891-8438-6921EA453525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218CFCC-2082-460F-8B61-600ACC443AB0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32A7076-0569-4D03-9FEC-397DDEB57C17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2DE99D1-C0B0-46C2-8D5E-B4EBFD884C7A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30F6ED6-E503-40AD-BB48-DF7873D5422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2369F-91CF-4BC9-9F57-1A0B5BF0DB63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A7F22D6-526A-40AB-AEB6-F226A19C6125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CA31053-68E7-4A92-9BB2-9952B88DA884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C5E00C9-1F91-413A-B24E-D0AD438AC2D6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053DA2E-2B02-48DE-8525-C96FCA05DFE7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ABCBE76-7976-4939-818E-ADB4244B1E94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99F953B-20D5-4717-893C-628F8D22E2AE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4350C83-A795-4324-9769-DFBE6B125930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9DF181-F62C-4DE5-84B8-922331D6C9BB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84C695-7141-4F09-825E-689F8147C6EF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0435C2-7605-4F50-A152-F02AE9E49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61.xml"/><Relationship Id="rId5" Type="http://schemas.openxmlformats.org/officeDocument/2006/relationships/slideLayout" Target="../slideLayouts/slideLayout962.xml"/><Relationship Id="rId6" Type="http://schemas.openxmlformats.org/officeDocument/2006/relationships/slideLayout" Target="../slideLayouts/slideLayout963.xml"/><Relationship Id="rId7" Type="http://schemas.openxmlformats.org/officeDocument/2006/relationships/slideLayout" Target="../slideLayouts/slideLayout964.xml"/><Relationship Id="rId8" Type="http://schemas.openxmlformats.org/officeDocument/2006/relationships/slideLayout" Target="../slideLayouts/slideLayout965.xml"/><Relationship Id="rId9" Type="http://schemas.openxmlformats.org/officeDocument/2006/relationships/slideLayout" Target="../slideLayouts/slideLayout966.xml"/><Relationship Id="rId10" Type="http://schemas.openxmlformats.org/officeDocument/2006/relationships/slideLayout" Target="../slideLayouts/slideLayout967.xml"/><Relationship Id="rId11" Type="http://schemas.openxmlformats.org/officeDocument/2006/relationships/slideLayout" Target="../slideLayouts/slideLayout968.xml"/><Relationship Id="rId12" Type="http://schemas.openxmlformats.org/officeDocument/2006/relationships/slideLayout" Target="../slideLayouts/slideLayout969.xml"/><Relationship Id="rId13" Type="http://schemas.openxmlformats.org/officeDocument/2006/relationships/slideLayout" Target="../slideLayouts/slideLayout970.xml"/><Relationship Id="rId14" Type="http://schemas.openxmlformats.org/officeDocument/2006/relationships/slideLayout" Target="../slideLayouts/slideLayout971.xml"/><Relationship Id="rId15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7413-D632-403B-885B-AD30A9D943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D553-6DBE-49BC-8911-B774A8C3B57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0ED7-961F-4B89-9935-BEFF5E7A20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EDF7-790C-4C69-8E82-46B60C2D71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81AB-4D5C-4ECD-BFF2-1CF7943EA5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6051-EC37-48F8-89C1-0FB2312516A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4CB0-F82B-46E4-8A0C-42D4BB4450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A3A0-B3EB-467A-AF81-229C83B9CE6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BFEE-CA15-4C96-B9E6-90ACC1445DF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2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81DA-3C39-4FA0-96EA-93E2871ABF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15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17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818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1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22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823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826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828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829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834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B572-171B-46B1-919F-0F40758A4F1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A0D2-8A27-4DE1-8520-4A8D8C3D8B8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2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338A-08F8-4DD7-BCEC-BB8254DB782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6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sldNum" idx="2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FBD4-98B2-4224-861B-437849378B1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2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A780-CEDE-4CA3-80C4-6B9C30D2669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Num" idx="2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0724-9A9A-4396-9053-0365406260D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sldNum" idx="3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6D95-A33F-428C-8588-725BD4C2FD5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3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041A-F9A3-464D-B18D-4CC070D9301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3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BFBC-70AD-4F82-9DE8-D8330E2FA1B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sldNum" idx="3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8A19-E4C7-40FD-BB20-33EBD9951FC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3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C353-D5E9-478B-AA31-867D845B1D5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A266-6288-4AAF-9B0F-6FA05DE1545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314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316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317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18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19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20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321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322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3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324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325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328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3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3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2752-E2EF-4FF8-A91F-99752EB9D23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3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61FE-C455-4E93-AAA7-652188CF263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Num" idx="3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CD3C-46CB-4AFF-A13E-96E763499AC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sldNum" idx="3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E334-09A4-4E8B-867C-7D2E43F3188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3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C397-36B5-4EE0-8C1F-AD27090E1E2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sldNum" idx="4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0CFB-4CCB-4A33-8E2A-BB722AA67DC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AFEE-2286-4613-8CE1-5925A917552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4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D00E-AE0E-4988-8C68-C15ACD2F6F6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9379-2367-4AB4-9D8C-F0600B2D79C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98B5-148A-43C2-80BD-88DE831CCA9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sldNum" idx="4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DC74-22E1-42C5-8183-787EE376A1D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813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14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815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16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7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18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19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20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821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2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24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5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26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827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32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7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sldNum" idx="4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8913-849B-464B-B8F2-EE4C3302300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sldNum" idx="4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0118-86A8-4378-94B0-2178F90B7E1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sldNum" idx="4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F0BF-142B-4639-BBF9-7A62622C648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sldNum" idx="4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C84A-5E83-4C42-BD46-78158EB7758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4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 type="sldNum" idx="4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4DE8-FE4A-45AB-91A2-9B132856CC7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9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5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5E53-9879-4A6C-99CA-96A5A444271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4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5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1475-CEA1-4B3B-BC4B-169B9C7214F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sldNum" idx="5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6D10-9EEE-4749-A694-74248F7B935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1699-9EC1-47B5-A1CC-22828091B17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2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2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sldNum" idx="5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1040-E85C-4955-98D2-C5562936767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7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sldNum" idx="5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926C-16B0-4D79-ACC1-FC0DF9120F1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12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3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314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315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6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7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8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319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320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1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322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323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4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325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326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7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8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9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0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331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33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sldNum" idx="5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8D2D-70D7-4C82-9CAC-66EAA269BFE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1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sldNum" idx="5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DAC3-648F-40A9-B309-3D9212A1C15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6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sldNum" idx="5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DC63-00CC-4148-A93D-5A9B2886952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0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sldNum" idx="5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910C-3D14-4A7E-A090-206C882DB2E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4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5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sldNum" idx="5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3B3F-FD9A-4AB6-92BE-E8B91B2F97B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9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6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94DA-3D5E-4689-AA9C-5FCA8EA6999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3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sldNum" idx="6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F4B1-50C2-4E47-B23F-B264D59E2A5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A3E0-B470-4AFB-B90F-445C2F9DF75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7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sldNum" idx="6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4B58-526F-4988-A268-3DA3F226B50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2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2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Num" idx="6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1398-ECCF-48BD-A55F-19AD00E6E15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sldNum" idx="6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86B5-680C-4F82-88F5-9356027939C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811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1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81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81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6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818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819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0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82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82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82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83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8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sldNum" idx="6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6169-05FE-483E-86C2-C337FCCA638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1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1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sldNum" idx="6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366A-AB95-4A55-9FA2-0B030BABC30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5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6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 type="sldNum" idx="6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5A18-A748-495E-82E0-5C8EA4F931B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0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0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 type="sldNum" idx="6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0394-A82E-451B-867E-76EBA502C2E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sldNum" idx="6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0E2D-1C40-4498-83DE-1586C5120BC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9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9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 type="sldNum" idx="7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E596-C9D2-4F8F-B0D7-417EC4D9204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1900-5817-4919-8E9B-6F80C2287F8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3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3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 type="sldNum" idx="7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6BEA-EA52-41B4-8AFA-617C6DB3EF8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7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8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8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 type="sldNum" idx="7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284A-5CAD-4066-B152-45EC45FA910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2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 type="sldNum" idx="7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FB92-42A0-4114-B2E8-83FC6167F56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6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7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 type="sldNum" idx="7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3DE7-EA7B-4CE3-B8DC-7903E9B07B8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9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310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1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12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3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4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15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16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17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318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9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20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21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323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24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29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3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 type="sldNum" idx="7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ABF9-ABD0-4F27-AD1B-64AE8CE417C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1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1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sldNum" idx="7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E0E1-8DD6-42A6-AC9C-46E3A0AAE93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5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6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6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 type="sldNum" idx="7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CC6B-D571-43FB-837E-AD796D08D45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0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0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0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 type="sldNum" idx="7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6E2E-7B30-4796-BF6D-A05C6C2AE26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4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 type="sldNum" idx="7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9D3E-73A1-4B27-8E92-54A381F044F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1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1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2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2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2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 type="sldNum" idx="8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4F36-05EC-4909-AE36-FCE0E984311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3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3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 type="sldNum" idx="8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00D2-1931-4530-9C1E-8CC49E0464C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4"/>
    <p:sldLayoutId id="2147484690" r:id="rId5"/>
    <p:sldLayoutId id="2147484691" r:id="rId6"/>
    <p:sldLayoutId id="2147484692" r:id="rId7"/>
    <p:sldLayoutId id="2147484693" r:id="rId8"/>
    <p:sldLayoutId id="2147484694" r:id="rId9"/>
    <p:sldLayoutId id="2147484695" r:id="rId10"/>
    <p:sldLayoutId id="2147484696" r:id="rId11"/>
    <p:sldLayoutId id="2147484697" r:id="rId12"/>
    <p:sldLayoutId id="2147484698" r:id="rId13"/>
    <p:sldLayoutId id="2147484699" r:id="rId14"/>
    <p:sldLayoutId id="2147484700" r:id="rId15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7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8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sldNum" idx="8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701E-B842-4D41-B025-3FA58174DF2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2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2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8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BCFF-78A8-467F-9B8A-CCE43C6A44B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6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6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 type="sldNum" idx="8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2EF0-9597-48F8-8696-40DCA9D5477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045D-9E06-4005-A2EB-F16E322AAC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6192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三章　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神经肌肉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 type="subTitle"/>
          </p:nvPr>
        </p:nvSpPr>
        <p:spPr>
          <a:xfrm>
            <a:off x="755640" y="5445000"/>
            <a:ext cx="671040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延边大学护理学院     崔文香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脑脊液测定正常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59" name="对象 2"/>
          <p:cNvGraphicFramePr/>
          <p:nvPr/>
        </p:nvGraphicFramePr>
        <p:xfrm>
          <a:off x="179280" y="1268280"/>
          <a:ext cx="8591760" cy="54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0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59176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468000" y="162864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胚胎时期神经细胞的分化和繁殖以惊人的速度进行，每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；胚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月时，神经细胞数目达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亿个，之后不再有神经细胞数量的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婴儿期，各种刺激引起的神经冲动传导缓慢，且易于泛化，不易形成兴奋灶，因而婴儿易产生疲劳而进入睡眠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生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角膜反射、瞳孔对光反射、结膜反射及吞咽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以后逐渐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觅食反射、拥抱反射、握持反射、吸吮反射，迈步反射及颈肢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不存在，以后逐渐出现并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腹壁反射、提睾反射及腱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病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包括巴宾斯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binsk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戈登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ordo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奥苯海姆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ppenhei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岁以内可为阳性，个别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阳性可为生理反应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单侧阳性，结合临床考虑是否为病理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1907640" y="2997000"/>
            <a:ext cx="5543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化脓性脑膜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D074-301F-49D7-9C79-145DC45217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各种化脓性细菌感染引起的急性脑膜炎症，是小儿、尤其婴幼儿时期常见的中枢神经系统感染性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菌的侵袭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22C3-46F0-4E6B-BA57-93907D198BA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5" name="Oval 5"/>
          <p:cNvSpPr/>
          <p:nvPr/>
        </p:nvSpPr>
        <p:spPr>
          <a:xfrm>
            <a:off x="3276720" y="2133720"/>
            <a:ext cx="2590560" cy="10792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致病菌的侵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6" name="Rectangle 11"/>
          <p:cNvSpPr/>
          <p:nvPr/>
        </p:nvSpPr>
        <p:spPr>
          <a:xfrm>
            <a:off x="43488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7" name="Rectangle 11"/>
          <p:cNvSpPr/>
          <p:nvPr/>
        </p:nvSpPr>
        <p:spPr>
          <a:xfrm>
            <a:off x="6084720" y="3800520"/>
            <a:ext cx="269748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8" name="Rectangle 11"/>
          <p:cNvSpPr/>
          <p:nvPr/>
        </p:nvSpPr>
        <p:spPr>
          <a:xfrm>
            <a:off x="3276720" y="38005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9" name="Rectangle 11"/>
          <p:cNvSpPr/>
          <p:nvPr/>
        </p:nvSpPr>
        <p:spPr>
          <a:xfrm>
            <a:off x="43488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肠道革兰阴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金黄色葡萄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0" name="Rectangle 11"/>
          <p:cNvSpPr/>
          <p:nvPr/>
        </p:nvSpPr>
        <p:spPr>
          <a:xfrm>
            <a:off x="32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流感嗜血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1" name="Rectangle 11"/>
          <p:cNvSpPr/>
          <p:nvPr/>
        </p:nvSpPr>
        <p:spPr>
          <a:xfrm>
            <a:off x="6084720" y="5084640"/>
            <a:ext cx="269748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脑膜炎双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肺炎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2" name="Line 3"/>
          <p:cNvSpPr/>
          <p:nvPr/>
        </p:nvSpPr>
        <p:spPr>
          <a:xfrm flipH="1">
            <a:off x="241092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3" name="Line 3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4" name="Line 3"/>
          <p:cNvSpPr/>
          <p:nvPr/>
        </p:nvSpPr>
        <p:spPr>
          <a:xfrm>
            <a:off x="6300720" y="3141720"/>
            <a:ext cx="43200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5" name="Line 3"/>
          <p:cNvSpPr/>
          <p:nvPr/>
        </p:nvSpPr>
        <p:spPr>
          <a:xfrm>
            <a:off x="197964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6" name="Line 3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7" name="Line 3"/>
          <p:cNvSpPr/>
          <p:nvPr/>
        </p:nvSpPr>
        <p:spPr>
          <a:xfrm>
            <a:off x="7380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体免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11F8-E602-494F-AA51-21239F062F9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1" name="Oval 5"/>
          <p:cNvSpPr/>
          <p:nvPr/>
        </p:nvSpPr>
        <p:spPr>
          <a:xfrm>
            <a:off x="3419640" y="2205000"/>
            <a:ext cx="2286000" cy="10666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机体免疫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2" name="Rectangle 11"/>
          <p:cNvSpPr/>
          <p:nvPr/>
        </p:nvSpPr>
        <p:spPr>
          <a:xfrm>
            <a:off x="111600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M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3" name="Rectangle 11"/>
          <p:cNvSpPr/>
          <p:nvPr/>
        </p:nvSpPr>
        <p:spPr>
          <a:xfrm>
            <a:off x="507672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A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4" name="Rectangle 11"/>
          <p:cNvSpPr/>
          <p:nvPr/>
        </p:nvSpPr>
        <p:spPr>
          <a:xfrm>
            <a:off x="115416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大肠埃希菌败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5" name="Rectangle 11"/>
          <p:cNvSpPr/>
          <p:nvPr/>
        </p:nvSpPr>
        <p:spPr>
          <a:xfrm>
            <a:off x="50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呼吸道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胃肠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6" name="Line 3"/>
          <p:cNvSpPr/>
          <p:nvPr/>
        </p:nvSpPr>
        <p:spPr>
          <a:xfrm flipH="1">
            <a:off x="277128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7" name="Line 3"/>
          <p:cNvSpPr/>
          <p:nvPr/>
        </p:nvSpPr>
        <p:spPr>
          <a:xfrm>
            <a:off x="5867280" y="3141720"/>
            <a:ext cx="43344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8" name="Line 3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9" name="Line 3"/>
          <p:cNvSpPr/>
          <p:nvPr/>
        </p:nvSpPr>
        <p:spPr>
          <a:xfrm>
            <a:off x="673272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1C66-312D-4E4B-BDD1-803B42A514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826560" y="285480"/>
            <a:ext cx="8317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</a:t>
            </a:r>
            <a:r>
              <a:rPr b="0" i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致病菌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2" name="Text Box 30"/>
          <p:cNvSpPr/>
          <p:nvPr/>
        </p:nvSpPr>
        <p:spPr>
          <a:xfrm>
            <a:off x="6300720" y="357336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3" name="图片 1" descr=""/>
          <p:cNvPicPr/>
          <p:nvPr/>
        </p:nvPicPr>
        <p:blipFill>
          <a:blip r:embed="rId1"/>
          <a:stretch/>
        </p:blipFill>
        <p:spPr>
          <a:xfrm>
            <a:off x="588960" y="1844640"/>
            <a:ext cx="8132760" cy="4249800"/>
          </a:xfrm>
          <a:prstGeom prst="rect">
            <a:avLst/>
          </a:prstGeom>
          <a:ln w="0">
            <a:noFill/>
          </a:ln>
        </p:spPr>
      </p:pic>
      <p:sp>
        <p:nvSpPr>
          <p:cNvPr id="3904" name="AutoShape 5"/>
          <p:cNvSpPr/>
          <p:nvPr/>
        </p:nvSpPr>
        <p:spPr>
          <a:xfrm>
            <a:off x="2411280" y="225432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5" name="图片 2" descr=""/>
          <p:cNvPicPr/>
          <p:nvPr/>
        </p:nvPicPr>
        <p:blipFill>
          <a:blip r:embed="rId2"/>
          <a:stretch/>
        </p:blipFill>
        <p:spPr>
          <a:xfrm>
            <a:off x="1284120" y="3706920"/>
            <a:ext cx="48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8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15C9-7FE5-4A1C-9C06-AE3EE670E6F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9" name="Oval 5"/>
          <p:cNvSpPr/>
          <p:nvPr/>
        </p:nvSpPr>
        <p:spPr>
          <a:xfrm>
            <a:off x="3203640" y="1268280"/>
            <a:ext cx="25923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典型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0" name="Rectangle 11"/>
          <p:cNvSpPr/>
          <p:nvPr/>
        </p:nvSpPr>
        <p:spPr>
          <a:xfrm>
            <a:off x="425520" y="29019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感染中毒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急性脑功能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1" name="Rectangle 11"/>
          <p:cNvSpPr/>
          <p:nvPr/>
        </p:nvSpPr>
        <p:spPr>
          <a:xfrm>
            <a:off x="607536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2" name="Rectangle 11"/>
          <p:cNvSpPr/>
          <p:nvPr/>
        </p:nvSpPr>
        <p:spPr>
          <a:xfrm>
            <a:off x="326700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71280" y="4197240"/>
            <a:ext cx="320544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发热、烦躁不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进行性加重的意识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4" name="Rectangle 11"/>
          <p:cNvSpPr/>
          <p:nvPr/>
        </p:nvSpPr>
        <p:spPr>
          <a:xfrm>
            <a:off x="3348000" y="4197240"/>
            <a:ext cx="269712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痛、呕吐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婴儿则有前囟饱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与张力增高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围增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5" name="Rectangle 11"/>
          <p:cNvSpPr/>
          <p:nvPr/>
        </p:nvSpPr>
        <p:spPr>
          <a:xfrm>
            <a:off x="6146640" y="4197240"/>
            <a:ext cx="288936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颈项强直最常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其他如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Kernig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Brudzinski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6" name="Line 3"/>
          <p:cNvSpPr/>
          <p:nvPr/>
        </p:nvSpPr>
        <p:spPr>
          <a:xfrm flipH="1">
            <a:off x="2401560" y="2252520"/>
            <a:ext cx="53028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7" name="Line 3"/>
          <p:cNvSpPr/>
          <p:nvPr/>
        </p:nvSpPr>
        <p:spPr>
          <a:xfrm>
            <a:off x="4562640" y="246852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8" name="Line 3"/>
          <p:cNvSpPr/>
          <p:nvPr/>
        </p:nvSpPr>
        <p:spPr>
          <a:xfrm>
            <a:off x="6291360" y="2252520"/>
            <a:ext cx="43164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9" name="Line 3"/>
          <p:cNvSpPr/>
          <p:nvPr/>
        </p:nvSpPr>
        <p:spPr>
          <a:xfrm>
            <a:off x="1763640" y="378936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0" name="Line 3"/>
          <p:cNvSpPr/>
          <p:nvPr/>
        </p:nvSpPr>
        <p:spPr>
          <a:xfrm>
            <a:off x="4562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1" name="Line 3"/>
          <p:cNvSpPr/>
          <p:nvPr/>
        </p:nvSpPr>
        <p:spPr>
          <a:xfrm>
            <a:off x="7370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535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化脓性脑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脑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癫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吉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巴雷综合征                注意力缺陷多动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812" name="Group 4"/>
          <p:cNvGrpSpPr/>
          <p:nvPr/>
        </p:nvGrpSpPr>
        <p:grpSpPr>
          <a:xfrm>
            <a:off x="1819440" y="2579760"/>
            <a:ext cx="688320" cy="593640"/>
            <a:chOff x="1819440" y="2579760"/>
            <a:chExt cx="688320" cy="593640"/>
          </a:xfrm>
        </p:grpSpPr>
        <p:sp>
          <p:nvSpPr>
            <p:cNvPr id="3813" name="AutoShape 5"/>
            <p:cNvSpPr/>
            <p:nvPr/>
          </p:nvSpPr>
          <p:spPr>
            <a:xfrm>
              <a:off x="1824840" y="258984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4" name="AutoShape 6"/>
            <p:cNvSpPr/>
            <p:nvPr/>
          </p:nvSpPr>
          <p:spPr>
            <a:xfrm>
              <a:off x="1819440" y="257976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5" name="AutoShape 7"/>
            <p:cNvSpPr/>
            <p:nvPr/>
          </p:nvSpPr>
          <p:spPr>
            <a:xfrm>
              <a:off x="1859400" y="26146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16" name="Text Box 8"/>
          <p:cNvSpPr/>
          <p:nvPr/>
        </p:nvSpPr>
        <p:spPr>
          <a:xfrm>
            <a:off x="1980720" y="2637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7" name="AutoShape 9"/>
          <p:cNvSpPr/>
          <p:nvPr/>
        </p:nvSpPr>
        <p:spPr>
          <a:xfrm>
            <a:off x="1819440" y="334152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8" name="Text Box 10"/>
          <p:cNvSpPr/>
          <p:nvPr/>
        </p:nvSpPr>
        <p:spPr>
          <a:xfrm>
            <a:off x="1954080" y="3424320"/>
            <a:ext cx="35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19" name="Group 11"/>
          <p:cNvGrpSpPr/>
          <p:nvPr/>
        </p:nvGrpSpPr>
        <p:grpSpPr>
          <a:xfrm>
            <a:off x="1803240" y="4110120"/>
            <a:ext cx="687240" cy="593640"/>
            <a:chOff x="1803240" y="4110120"/>
            <a:chExt cx="687240" cy="593640"/>
          </a:xfrm>
        </p:grpSpPr>
        <p:sp>
          <p:nvSpPr>
            <p:cNvPr id="3820" name="AutoShape 12"/>
            <p:cNvSpPr/>
            <p:nvPr/>
          </p:nvSpPr>
          <p:spPr>
            <a:xfrm>
              <a:off x="1808640" y="412020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1" name="AutoShape 13"/>
            <p:cNvSpPr/>
            <p:nvPr/>
          </p:nvSpPr>
          <p:spPr>
            <a:xfrm>
              <a:off x="1803240" y="41101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2" name="AutoShape 14"/>
            <p:cNvSpPr/>
            <p:nvPr/>
          </p:nvSpPr>
          <p:spPr>
            <a:xfrm>
              <a:off x="1843200" y="414504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23" name="Text Box 15"/>
          <p:cNvSpPr/>
          <p:nvPr/>
        </p:nvSpPr>
        <p:spPr>
          <a:xfrm>
            <a:off x="1971720" y="418608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4" name="AutoShape 16"/>
          <p:cNvSpPr/>
          <p:nvPr/>
        </p:nvSpPr>
        <p:spPr>
          <a:xfrm>
            <a:off x="1803240" y="487188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5" name="Text Box 17"/>
          <p:cNvSpPr/>
          <p:nvPr/>
        </p:nvSpPr>
        <p:spPr>
          <a:xfrm>
            <a:off x="1963440" y="492912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6" name="Line 18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7" name="Line 19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9" name="Line 21"/>
          <p:cNvSpPr/>
          <p:nvPr/>
        </p:nvSpPr>
        <p:spPr>
          <a:xfrm>
            <a:off x="2484360" y="5445000"/>
            <a:ext cx="4824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0" name="Line 21"/>
          <p:cNvSpPr/>
          <p:nvPr/>
        </p:nvSpPr>
        <p:spPr>
          <a:xfrm>
            <a:off x="2484360" y="6093000"/>
            <a:ext cx="48722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1" name="Group 4"/>
          <p:cNvGrpSpPr/>
          <p:nvPr/>
        </p:nvGrpSpPr>
        <p:grpSpPr>
          <a:xfrm>
            <a:off x="1835280" y="5589720"/>
            <a:ext cx="688320" cy="593640"/>
            <a:chOff x="1835280" y="5589720"/>
            <a:chExt cx="688320" cy="593640"/>
          </a:xfrm>
        </p:grpSpPr>
        <p:sp>
          <p:nvSpPr>
            <p:cNvPr id="3832" name="AutoShape 5"/>
            <p:cNvSpPr/>
            <p:nvPr/>
          </p:nvSpPr>
          <p:spPr>
            <a:xfrm>
              <a:off x="1840680" y="55998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3" name="AutoShape 6"/>
            <p:cNvSpPr/>
            <p:nvPr/>
          </p:nvSpPr>
          <p:spPr>
            <a:xfrm>
              <a:off x="1835280" y="55897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4" name="AutoShape 7"/>
            <p:cNvSpPr/>
            <p:nvPr/>
          </p:nvSpPr>
          <p:spPr>
            <a:xfrm>
              <a:off x="1875240" y="562464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35" name="Text Box 8"/>
          <p:cNvSpPr/>
          <p:nvPr/>
        </p:nvSpPr>
        <p:spPr>
          <a:xfrm>
            <a:off x="2014920" y="5661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6" name="Group 11"/>
          <p:cNvGrpSpPr/>
          <p:nvPr/>
        </p:nvGrpSpPr>
        <p:grpSpPr>
          <a:xfrm>
            <a:off x="1763640" y="1773360"/>
            <a:ext cx="687240" cy="593640"/>
            <a:chOff x="1763640" y="1773360"/>
            <a:chExt cx="687240" cy="593640"/>
          </a:xfrm>
        </p:grpSpPr>
        <p:sp>
          <p:nvSpPr>
            <p:cNvPr id="3837" name="AutoShape 12"/>
            <p:cNvSpPr/>
            <p:nvPr/>
          </p:nvSpPr>
          <p:spPr>
            <a:xfrm>
              <a:off x="1769040" y="1783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8" name="AutoShape 13"/>
            <p:cNvSpPr/>
            <p:nvPr/>
          </p:nvSpPr>
          <p:spPr>
            <a:xfrm>
              <a:off x="1763640" y="1773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9" name="AutoShape 14"/>
            <p:cNvSpPr/>
            <p:nvPr/>
          </p:nvSpPr>
          <p:spPr>
            <a:xfrm>
              <a:off x="1803600" y="1808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0" name="Text Box 15"/>
          <p:cNvSpPr/>
          <p:nvPr/>
        </p:nvSpPr>
        <p:spPr>
          <a:xfrm>
            <a:off x="1932120" y="184932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1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典型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24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FFE5-4FC4-46DE-A8F4-EFC5730C593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5" name="Oval 5"/>
          <p:cNvSpPr/>
          <p:nvPr/>
        </p:nvSpPr>
        <p:spPr>
          <a:xfrm>
            <a:off x="250920" y="3284640"/>
            <a:ext cx="22701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非典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6" name="Rectangle 11"/>
          <p:cNvSpPr/>
          <p:nvPr/>
        </p:nvSpPr>
        <p:spPr>
          <a:xfrm>
            <a:off x="4211640" y="1700280"/>
            <a:ext cx="460836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体温可高可低或不发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甚至体温不升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7" name="Rectangle 11"/>
          <p:cNvSpPr/>
          <p:nvPr/>
        </p:nvSpPr>
        <p:spPr>
          <a:xfrm>
            <a:off x="4211640" y="4344480"/>
            <a:ext cx="460044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惊厥可不典型，如仅见面部、肢体局灶或多灶性抽动、局部或全身性肌阵挛，或呈眨眼、呼吸不规则、屏气等各种不显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8" name="Rectangle 11"/>
          <p:cNvSpPr/>
          <p:nvPr/>
        </p:nvSpPr>
        <p:spPr>
          <a:xfrm>
            <a:off x="4211640" y="2565360"/>
            <a:ext cx="4608360" cy="11509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表现不明显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幼婴不会诉头痛，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仅有吐奶、尖叫或颅缝分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9" name="Line 3"/>
          <p:cNvSpPr/>
          <p:nvPr/>
        </p:nvSpPr>
        <p:spPr>
          <a:xfrm flipV="1">
            <a:off x="2411280" y="2133360"/>
            <a:ext cx="149544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0" name="Rectangle 11"/>
          <p:cNvSpPr/>
          <p:nvPr/>
        </p:nvSpPr>
        <p:spPr>
          <a:xfrm>
            <a:off x="4211640" y="5448240"/>
            <a:ext cx="46083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不明显，与婴儿肌肉不发达，肌力弱和反应低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1" name="Line 3"/>
          <p:cNvSpPr/>
          <p:nvPr/>
        </p:nvSpPr>
        <p:spPr>
          <a:xfrm>
            <a:off x="2700360" y="4076640"/>
            <a:ext cx="1295280" cy="216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2" name="Line 3"/>
          <p:cNvSpPr/>
          <p:nvPr/>
        </p:nvSpPr>
        <p:spPr>
          <a:xfrm flipV="1">
            <a:off x="2700360" y="3141720"/>
            <a:ext cx="129528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3" name="Line 3"/>
          <p:cNvSpPr/>
          <p:nvPr/>
        </p:nvSpPr>
        <p:spPr>
          <a:xfrm>
            <a:off x="2268360" y="4724280"/>
            <a:ext cx="1727280" cy="1008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6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AA1B-432E-4258-97D6-7FD27C7FEF2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7" name="Oval 5"/>
          <p:cNvSpPr/>
          <p:nvPr/>
        </p:nvSpPr>
        <p:spPr>
          <a:xfrm>
            <a:off x="2843280" y="2205000"/>
            <a:ext cx="2270160" cy="107964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8" name="Rectangle 11"/>
          <p:cNvSpPr/>
          <p:nvPr/>
        </p:nvSpPr>
        <p:spPr>
          <a:xfrm>
            <a:off x="250920" y="4292640"/>
            <a:ext cx="1944720" cy="450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硬膜下积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9" name="Rectangle 11"/>
          <p:cNvSpPr/>
          <p:nvPr/>
        </p:nvSpPr>
        <p:spPr>
          <a:xfrm>
            <a:off x="4284720" y="4293720"/>
            <a:ext cx="172728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积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0" name="Rectangle 11"/>
          <p:cNvSpPr/>
          <p:nvPr/>
        </p:nvSpPr>
        <p:spPr>
          <a:xfrm>
            <a:off x="2411280" y="4292640"/>
            <a:ext cx="1729080" cy="43164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室管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1" name="Rectangle 11"/>
          <p:cNvSpPr/>
          <p:nvPr/>
        </p:nvSpPr>
        <p:spPr>
          <a:xfrm>
            <a:off x="6429240" y="4074120"/>
            <a:ext cx="25005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抗利尿激素不适当分泌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2" name="Line 3"/>
          <p:cNvSpPr/>
          <p:nvPr/>
        </p:nvSpPr>
        <p:spPr>
          <a:xfrm>
            <a:off x="5364000" y="2997360"/>
            <a:ext cx="1729080" cy="1008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3" name="Line 3"/>
          <p:cNvSpPr/>
          <p:nvPr/>
        </p:nvSpPr>
        <p:spPr>
          <a:xfrm flipH="1">
            <a:off x="3276720" y="3284640"/>
            <a:ext cx="2872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4" name="Line 3"/>
          <p:cNvSpPr/>
          <p:nvPr/>
        </p:nvSpPr>
        <p:spPr>
          <a:xfrm>
            <a:off x="4643280" y="3284640"/>
            <a:ext cx="2890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5" name="Line 3"/>
          <p:cNvSpPr/>
          <p:nvPr/>
        </p:nvSpPr>
        <p:spPr>
          <a:xfrm flipH="1">
            <a:off x="1186920" y="3141720"/>
            <a:ext cx="158436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FFCA-FD7F-43D0-9EF8-60A2AAD583A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皮肤瘀点、瘀斑涂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周血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清降钙素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神经影像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49" name="Picture 4" descr="图片19"/>
          <p:cNvPicPr/>
          <p:nvPr/>
        </p:nvPicPr>
        <p:blipFill>
          <a:blip r:embed="rId1"/>
          <a:stretch/>
        </p:blipFill>
        <p:spPr>
          <a:xfrm>
            <a:off x="565164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83A9-184F-4B6E-B212-FBE8E0ED9AA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上腺素皮质激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及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治疗：①硬脑膜下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室管膜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4E06-A65A-4713-B8DF-1E976CEAE81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小儿患病前有无呼吸道、消化道或皮肤的感染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患儿生命体征，评估患儿有无发病各项症状，并判断症状的程度和性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对患儿健康的需求；是否有焦虑和恐惧的心理状况。评估家庭对疾病治疗和护理的经济承受能力和社会的支持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ACB8-24A4-42DC-9222-5394A0A0821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171360" y="1628640"/>
            <a:ext cx="889344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细菌感染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惊厥发作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摄入不足、机体消耗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疾病预后不良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39D7-8389-45EB-A9BC-E74C65A8B9B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96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96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6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7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7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5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76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3977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3978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9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0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1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2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3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8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8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8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1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2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993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994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5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6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97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8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9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00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01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02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3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4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5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6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7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08" name="AutoShape 53"/>
          <p:cNvSpPr/>
          <p:nvPr/>
        </p:nvSpPr>
        <p:spPr>
          <a:xfrm>
            <a:off x="3465360" y="16765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9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病室安静清洁、空气新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遵医嘱及时给予退热和抗生素等药物治疗，并了解各种药物的使用配伍要求、适应证、禁忌证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2" name="矩形 55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4722-5622-47CB-9E8B-C32AEC8FE1D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1" name="AutoShape 53"/>
          <p:cNvSpPr/>
          <p:nvPr/>
        </p:nvSpPr>
        <p:spPr>
          <a:xfrm>
            <a:off x="3622680" y="24955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2" name="圆角矩形 54"/>
          <p:cNvSpPr/>
          <p:nvPr/>
        </p:nvSpPr>
        <p:spPr>
          <a:xfrm>
            <a:off x="4716360" y="1849320"/>
            <a:ext cx="3143520" cy="1284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命体征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发症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3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3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3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9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0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1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42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43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4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5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6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7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8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5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5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5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5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6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57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8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9" name="矩形 81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60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06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06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6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6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209A-9685-4D09-A879-3889A3755BE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9" name="AutoShape 53"/>
          <p:cNvSpPr/>
          <p:nvPr/>
        </p:nvSpPr>
        <p:spPr>
          <a:xfrm>
            <a:off x="3933720" y="32590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0" name="圆角矩形 55"/>
          <p:cNvSpPr/>
          <p:nvPr/>
        </p:nvSpPr>
        <p:spPr>
          <a:xfrm>
            <a:off x="4788000" y="2006640"/>
            <a:ext cx="4127400" cy="2735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环境和患儿安静，护理操作动作尽量轻柔、集中进行，修剪患儿指甲，专人守护和陪伴患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协助患儿洗漱、大小便及个人卫生等生活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7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7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7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7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8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8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8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6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8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8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8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9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3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4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95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96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97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8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9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0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1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2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0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0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0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9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0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2" name="矩形 138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1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1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1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9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2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390D-DBB3-4AB0-94BE-672F41D61CB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3" name="AutoShape 53"/>
          <p:cNvSpPr/>
          <p:nvPr/>
        </p:nvSpPr>
        <p:spPr>
          <a:xfrm>
            <a:off x="3940200" y="4199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4" name="圆角矩形 54"/>
          <p:cNvSpPr/>
          <p:nvPr/>
        </p:nvSpPr>
        <p:spPr>
          <a:xfrm>
            <a:off x="4876920" y="3100320"/>
            <a:ext cx="4005000" cy="2225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高热量、高蛋白、高维生素、易消化的清淡流质或半流质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2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2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2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3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3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3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4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4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4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9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150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151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2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3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54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5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6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3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4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65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6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6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6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6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7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3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74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-1440" y="1844280"/>
            <a:ext cx="91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说出小儿化脓性脑膜炎、病毒性脑膜炎及癫痫持续状态的定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描述小儿化脓性脑膜炎和吉兰</a:t>
            </a:r>
            <a:r>
              <a:rPr b="0" lang="en-US" sz="2000" spc="-1" strike="noStrike">
                <a:solidFill>
                  <a:srgbClr val="03517d"/>
                </a:solidFill>
                <a:latin typeface="黑体"/>
                <a:ea typeface="黑体"/>
              </a:rPr>
              <a:t>-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巴雷综合征脑脊液的特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化脓性脑膜炎及病毒性脑膜炎的临床特点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小儿癫痫的分型、注意力缺陷多动症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正确选择神经系统检查方法评估神经系统各种神经疾病存在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根据小儿不同年龄、疾病特征及护理问题实施相应的护理措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75A9-3590-4B9A-93F3-DDFEB1F2503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7" name="AutoShape 53"/>
          <p:cNvSpPr/>
          <p:nvPr/>
        </p:nvSpPr>
        <p:spPr>
          <a:xfrm flipV="1">
            <a:off x="3100320" y="5068080"/>
            <a:ext cx="1000080" cy="88920"/>
          </a:xfrm>
          <a:prstGeom prst="rightArrow">
            <a:avLst>
              <a:gd name="adj1" fmla="val 50000"/>
              <a:gd name="adj2" fmla="val 2233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8" name="圆角矩形 54"/>
          <p:cNvSpPr/>
          <p:nvPr/>
        </p:nvSpPr>
        <p:spPr>
          <a:xfrm>
            <a:off x="4302000" y="4338720"/>
            <a:ext cx="464364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患儿不同年龄，采用不同方式实施心理安慰、关心和爱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家长安慰，消除顾虑。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6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4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9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9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9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1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2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03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04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05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6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7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8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9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0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7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8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9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0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2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2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2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2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7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28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6719-F3F0-40F9-B1D5-1D7A045074E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1" name="AutoShape 53"/>
          <p:cNvSpPr/>
          <p:nvPr/>
        </p:nvSpPr>
        <p:spPr>
          <a:xfrm>
            <a:off x="314316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2" name="圆角矩形 54"/>
          <p:cNvSpPr/>
          <p:nvPr/>
        </p:nvSpPr>
        <p:spPr>
          <a:xfrm>
            <a:off x="4000680" y="3611520"/>
            <a:ext cx="5000400" cy="2889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积极防治上呼吸道、消化道等感染性疾病，预防皮肤外伤和脐部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与家属一起根据患儿具体情况制订系统且行之有效的功能训练计划，指导家长具体的护理措施，促进机体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0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8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5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6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57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58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59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0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1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62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3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4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1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2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73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4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7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7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7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1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2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4" name="圆角矩形 3"/>
          <p:cNvSpPr/>
          <p:nvPr/>
        </p:nvSpPr>
        <p:spPr>
          <a:xfrm>
            <a:off x="11160" y="1069920"/>
            <a:ext cx="9132840" cy="546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女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，因发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，呕吐伴抽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前开始发热，体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8.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持续不降，伴有流涕、咳嗽，烦躁不安。呕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，为胃内容物，量多，呈喷射状。入院当天突然出现抽搐，表现为意识丧失、双眼上翻、四肢强直，持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钟。患病以来精神萎靡，大小便正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格检查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 39.45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 4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P 1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W 9.0k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精神萎靡，嗜睡。皮肤黏膜未见瘀点、瘀斑。前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×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隆起。双侧瞳孔等大等圆，对光反射迟钝。咽部红。颈抵抗，双肺呼吸音粗，心音有力律齐，未闻及病理性杂音。腹软，肝肋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5cm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剑突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质中，脾未扪及。脊柱四肢发育正常。四肢肌张力增高，腱反射活跃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Kerni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rudzinski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巴氏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辅助检查：脑脊液检查结果：压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30mmH2O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外观浑浊；白细胞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2000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8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蛋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00mg0.9g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264mmmol/L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氯化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10 mmmol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血常规检查结果：白细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7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28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尿常规、便常规。肝功均正常。胸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线片未见异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问题：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．患儿最可能的临床诊断是什么？说出诊断依据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5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2572920" y="270828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病毒性脑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AD2B-6313-461C-9F78-DDE18541FD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encephalit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病毒感染引起的颅内急性炎症。若病变主要累及脑实质则称为病毒性脑炎，若病变主要累及脑膜则称为病毒性脑膜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meningit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大多数患儿病程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病毒感染均可引起脑炎、脑膜炎，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肠道病毒（柯萨奇病毒、埃可病毒）感染，其次为单纯疱疹病毒、腮腺炎病毒和虫媒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F846-9CDA-40A0-A6A7-20E72FB2CF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246560" y="299520"/>
            <a:ext cx="4826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5" name="矩形 1"/>
          <p:cNvSpPr/>
          <p:nvPr/>
        </p:nvSpPr>
        <p:spPr>
          <a:xfrm>
            <a:off x="4246560" y="337644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6" name="矩形 27"/>
          <p:cNvSpPr/>
          <p:nvPr/>
        </p:nvSpPr>
        <p:spPr>
          <a:xfrm>
            <a:off x="4992840" y="2467080"/>
            <a:ext cx="18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释放入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7" name="矩形 28"/>
          <p:cNvSpPr/>
          <p:nvPr/>
        </p:nvSpPr>
        <p:spPr>
          <a:xfrm>
            <a:off x="4246560" y="1579680"/>
            <a:ext cx="334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局部的初期复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8" name="矩形 29"/>
          <p:cNvSpPr/>
          <p:nvPr/>
        </p:nvSpPr>
        <p:spPr>
          <a:xfrm>
            <a:off x="2046240" y="1928880"/>
            <a:ext cx="201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胃肠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9" name="矩形 30"/>
          <p:cNvSpPr/>
          <p:nvPr/>
        </p:nvSpPr>
        <p:spPr>
          <a:xfrm>
            <a:off x="343080" y="1558800"/>
            <a:ext cx="162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0" name="矩形 31"/>
          <p:cNvSpPr/>
          <p:nvPr/>
        </p:nvSpPr>
        <p:spPr>
          <a:xfrm>
            <a:off x="1900080" y="1236600"/>
            <a:ext cx="150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呼吸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1" name="矩形 32"/>
          <p:cNvSpPr/>
          <p:nvPr/>
        </p:nvSpPr>
        <p:spPr>
          <a:xfrm>
            <a:off x="6378480" y="3425760"/>
            <a:ext cx="299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发热等全身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2" name="矩形 33"/>
          <p:cNvSpPr/>
          <p:nvPr/>
        </p:nvSpPr>
        <p:spPr>
          <a:xfrm>
            <a:off x="4246560" y="5538960"/>
            <a:ext cx="3094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3" name="矩形 34"/>
          <p:cNvSpPr/>
          <p:nvPr/>
        </p:nvSpPr>
        <p:spPr>
          <a:xfrm>
            <a:off x="5118120" y="434808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血脑屏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304" name="直接箭头连接符 3"/>
          <p:cNvCxnSpPr/>
          <p:nvPr/>
        </p:nvCxnSpPr>
        <p:spPr>
          <a:xfrm>
            <a:off x="1318680" y="1949040"/>
            <a:ext cx="2791440" cy="108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5" name="直接箭头连接符 5"/>
          <p:cNvCxnSpPr/>
          <p:nvPr/>
        </p:nvCxnSpPr>
        <p:spPr>
          <a:xfrm>
            <a:off x="4992480" y="2184480"/>
            <a:ext cx="1080" cy="124200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6" name="直接箭头连接符 7"/>
          <p:cNvCxnSpPr/>
          <p:nvPr/>
        </p:nvCxnSpPr>
        <p:spPr>
          <a:xfrm>
            <a:off x="4992480" y="4114800"/>
            <a:ext cx="1080" cy="151992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sp>
        <p:nvSpPr>
          <p:cNvPr id="4307" name="直接连接符 9"/>
          <p:cNvSpPr/>
          <p:nvPr/>
        </p:nvSpPr>
        <p:spPr>
          <a:xfrm>
            <a:off x="5792760" y="3795840"/>
            <a:ext cx="585720" cy="0"/>
          </a:xfrm>
          <a:prstGeom prst="line">
            <a:avLst/>
          </a:prstGeom>
          <a:ln w="9360">
            <a:solidFill>
              <a:srgbClr val="006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膜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先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上呼吸道或消化道感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史，表现为发热、恶心、呕吐。继而婴儿出现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烦躁不安，易被激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年长儿表现头痛、颈背疼痛，脑膜刺激征阳性。很少发生严重意识障碍和惊厥，无局限性神经系统体征。病程大多为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906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驱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全身感染症状，如发热、头痛、呕吐、腹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枢神经系统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惊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意识障碍  ③颅内压增高    ④运动功能障碍   ⑤神经情绪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程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，多数患儿可完全恢复，但少数遗留癫痫、肢体瘫痪、智力倒退等后遗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1545-C62D-461F-BFA6-E79E8F32EAA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42879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/MR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315" name="Picture 4" descr="图片19"/>
          <p:cNvPicPr/>
          <p:nvPr/>
        </p:nvPicPr>
        <p:blipFill>
          <a:blip r:embed="rId1"/>
          <a:stretch/>
        </p:blipFill>
        <p:spPr>
          <a:xfrm>
            <a:off x="550872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5" name=""/>
          <p:cNvSpPr txBox="1"/>
          <p:nvPr/>
        </p:nvSpPr>
        <p:spPr>
          <a:xfrm>
            <a:off x="323640" y="256536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神经系统解剖生理特点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61CD-22B6-4D74-8D05-FE2C68B1E7D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治疗与支持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降温、镇静止痉、控制脑水肿、降低颅内压，卧床休息，维持体温正常及水、电解质平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病毒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阿昔洛韦、干扰素、更昔洛韦、利巴韦林或静脉注射免疫球蛋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37A1-A642-412B-B47A-69795AA98E1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228240" y="1832040"/>
            <a:ext cx="899172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有无呼吸道或胃肠道感染史，有无动物接触史或蚊虫叮咬史，预防接种史和流行病学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史：起病前有无上呼吸道感染、胃肠道感染史，是否进行预防接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体状况：患儿生命体征，精神状态、神志；有无头痛、呕吐、惊厥；囟门是否紧张、隆起、有无脑膜刺激征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AA22-8417-4DB7-8FE1-C91CCB5B7FA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247680" y="1730520"/>
            <a:ext cx="874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病毒血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惊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急性意识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脑实质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昏迷、瘫痪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于机体需要量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呕吐、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3EC2-2761-4A98-92C5-5F959006838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7" name="AutoShape 53"/>
          <p:cNvSpPr/>
          <p:nvPr/>
        </p:nvSpPr>
        <p:spPr>
          <a:xfrm>
            <a:off x="3454560" y="15667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8" name="圆角矩形 54"/>
          <p:cNvSpPr/>
          <p:nvPr/>
        </p:nvSpPr>
        <p:spPr>
          <a:xfrm>
            <a:off x="4214880" y="1357200"/>
            <a:ext cx="4929120" cy="78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2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3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3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3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33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33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4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4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34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34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5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35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35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6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36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36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6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37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37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7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7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38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38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552D-1EA0-4234-91D6-9510955CE8E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9" name="AutoShape 53"/>
          <p:cNvSpPr/>
          <p:nvPr/>
        </p:nvSpPr>
        <p:spPr>
          <a:xfrm>
            <a:off x="3591000" y="219564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0" name="圆角矩形 54"/>
          <p:cNvSpPr/>
          <p:nvPr/>
        </p:nvSpPr>
        <p:spPr>
          <a:xfrm>
            <a:off x="4643280" y="1552680"/>
            <a:ext cx="3143520" cy="1284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惊厥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约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9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9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9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0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0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0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0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0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0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1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1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1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2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2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3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3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3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3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3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4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4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44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44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4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20C7-1367-46C9-90E3-2D3AC0D763E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1" name="AutoShape 53"/>
          <p:cNvSpPr/>
          <p:nvPr/>
        </p:nvSpPr>
        <p:spPr>
          <a:xfrm>
            <a:off x="3946680" y="29383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2" name="圆角矩形 55"/>
          <p:cNvSpPr/>
          <p:nvPr/>
        </p:nvSpPr>
        <p:spPr>
          <a:xfrm>
            <a:off x="4788000" y="2052720"/>
            <a:ext cx="4127400" cy="180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除影响患儿情绪的不良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保护性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53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454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455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6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7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58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9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0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1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62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63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4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5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6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7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8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9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70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71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2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3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4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5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6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77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78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79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0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1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82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3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4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85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86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87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8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9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90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1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2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93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4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95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96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97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8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9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0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1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2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03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04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05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6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7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8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9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0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1C32-0754-415A-9D22-22F795812C4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3" name="AutoShape 53"/>
          <p:cNvSpPr/>
          <p:nvPr/>
        </p:nvSpPr>
        <p:spPr>
          <a:xfrm>
            <a:off x="4316400" y="3656160"/>
            <a:ext cx="530280" cy="63360"/>
          </a:xfrm>
          <a:prstGeom prst="rightArrow">
            <a:avLst>
              <a:gd name="adj1" fmla="val 50000"/>
              <a:gd name="adj2" fmla="val 2220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4" name="圆角矩形 54"/>
          <p:cNvSpPr/>
          <p:nvPr/>
        </p:nvSpPr>
        <p:spPr>
          <a:xfrm>
            <a:off x="5046840" y="3083040"/>
            <a:ext cx="4005000" cy="1253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呈功能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早进行肢体功能锻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15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16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17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8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9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0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1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2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23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24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25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6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7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8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9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0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1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32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33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4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5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36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7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8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9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540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541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2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3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4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5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6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47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548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549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0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1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2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3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4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55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6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57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558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559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0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1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62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3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64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65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66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67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8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9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70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1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2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A2E0-E486-4B91-A405-70D01A07161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5" name="AutoShape 53"/>
          <p:cNvSpPr/>
          <p:nvPr/>
        </p:nvSpPr>
        <p:spPr>
          <a:xfrm flipV="1">
            <a:off x="3429000" y="4368240"/>
            <a:ext cx="727200" cy="44280"/>
          </a:xfrm>
          <a:prstGeom prst="rightArrow">
            <a:avLst>
              <a:gd name="adj1" fmla="val 50000"/>
              <a:gd name="adj2" fmla="val 2307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6" name="圆角矩形 54"/>
          <p:cNvSpPr/>
          <p:nvPr/>
        </p:nvSpPr>
        <p:spPr>
          <a:xfrm>
            <a:off x="4546440" y="3456000"/>
            <a:ext cx="436896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昏迷患儿侧卧位，定时翻身及按摩皮肤，防止出现压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77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78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79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0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1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2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3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4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5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86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87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8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9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0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1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2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93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94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95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6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7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8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9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0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1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02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03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4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5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6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7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8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9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10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11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2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3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14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5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6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17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8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19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20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21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2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3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4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5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6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27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28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29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0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1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2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3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4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DF8A-FD23-4C5F-9A6B-5B77A80C9FD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7" name="AutoShape 53"/>
          <p:cNvSpPr/>
          <p:nvPr/>
        </p:nvSpPr>
        <p:spPr>
          <a:xfrm>
            <a:off x="4295880" y="49989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8" name="圆角矩形 54"/>
          <p:cNvSpPr/>
          <p:nvPr/>
        </p:nvSpPr>
        <p:spPr>
          <a:xfrm>
            <a:off x="5351400" y="4479840"/>
            <a:ext cx="3564000" cy="11271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瞳孔及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意识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64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64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4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4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64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64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5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65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65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6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6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7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7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7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7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8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8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8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8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9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9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9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9A44-4762-4864-8485-2EEF4C76003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9" name="AutoShape 53"/>
          <p:cNvSpPr/>
          <p:nvPr/>
        </p:nvSpPr>
        <p:spPr>
          <a:xfrm>
            <a:off x="3103560" y="57913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0" name="圆角矩形 54"/>
          <p:cNvSpPr/>
          <p:nvPr/>
        </p:nvSpPr>
        <p:spPr>
          <a:xfrm>
            <a:off x="4316400" y="4511520"/>
            <a:ext cx="4599000" cy="1892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向患儿和家长介绍病情、用药指导及护理方法，指导并鼓励家长坚持智力训练和瘫痪肢体的功能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70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70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0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71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71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1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71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71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2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2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72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72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3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73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73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4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4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74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74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5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75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75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5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7" name=""/>
          <p:cNvSpPr txBox="1"/>
          <p:nvPr/>
        </p:nvSpPr>
        <p:spPr>
          <a:xfrm>
            <a:off x="395280" y="1681200"/>
            <a:ext cx="8352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57160" indent="-85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8" name="内容占位符 2"/>
          <p:cNvSpPr/>
          <p:nvPr/>
        </p:nvSpPr>
        <p:spPr>
          <a:xfrm>
            <a:off x="617400" y="2349360"/>
            <a:ext cx="79092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发育是小儿神经心理行为发展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器官中神经系统发育居领先地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的生长是形态发育与结构功能逐渐成熟的过程，主要是神经细胞体积的增大和与之相连的突触数量的增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0" name="圆角矩形 3"/>
          <p:cNvSpPr/>
          <p:nvPr/>
        </p:nvSpPr>
        <p:spPr>
          <a:xfrm>
            <a:off x="11160" y="1306440"/>
            <a:ext cx="9132840" cy="5118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男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因“发热、神昏抽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”由某医院急诊科收入院，患儿入院时高热，处于中度昏迷状态，频繁抽搐伴意识丧失，喉中痰鸣，大便秘结。查体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39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14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3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P105/56mmHg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瞳孔直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m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两侧对称，对光反应迟钝，各生理反射减弱，双侧巴氏征阳性，脑膜刺激征阳性，双眼视盘轻度水肿。脑脊液检查：压力升高，外观清亮，白细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淋巴细胞为主，糖和氯化物正常，蛋白质轻度增高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前曾患有上呼吸道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问题：该患儿的主要护理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1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2868120" y="2997000"/>
            <a:ext cx="40165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　癫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0C86-D850-4C1F-86E1-354A9CBD8B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癫 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387360" y="1557000"/>
            <a:ext cx="84772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eizure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于脑部神经元发作性异常放电引起脑功能障碍的一组临床症状，表现为意识障碍、抽搐、精神行为异常等，多数癫痫发作持续时间短暂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pileps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原因引起的脑部慢性疾患，是脑内神经元反复发作性异常放电导致突发性、暂时性脑功能失常，临床出现意识、运动、感觉、精神或自主神经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内结构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EFDB-74F4-4D2C-A393-9843D39081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1" name="矩形 1"/>
          <p:cNvSpPr/>
          <p:nvPr/>
        </p:nvSpPr>
        <p:spPr>
          <a:xfrm>
            <a:off x="395280" y="287172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发生机制十分复杂，迄今尚未完全阐明。许多研究结果表明它的电生理本质是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神经元过度同步放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结果，与神经生化、神经生理、神经生物学、免疫学等均密切相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/>
          </p:nvPr>
        </p:nvSpPr>
        <p:spPr>
          <a:xfrm>
            <a:off x="47304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局灶性发作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单纯局灶性发作：临床以局灶性运动性发作最常见，发作时间平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秒，发作后无不适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复杂局灶性发作：发作时有意识、知觉损害。意识部分丧失，多起源于颞区或额颞区，伴有精神行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5970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全面部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强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神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肌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张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痉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良性癫痫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最常见的一种癫痫综合征。从口面部开始，很快发展至全身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，意识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婴儿痉挛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繁的强直痉挛发作，表现为屈曲性、伸展性及混合性三种。以屈曲性及混合性发作多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Lennox-Gastaut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综合征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多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常见肌阵挛、强直、失张力及非典型失神等多种发作，也可有大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302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持续状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tatus epilepticu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一次发作持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或反复发作间歇期意识不能完全恢复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者，称为癫痫持续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因突然停药、药物中毒、高热等诱发。临床多见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持续状态，颅内、外急性疾病均可引起，为儿科急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C2BE-0307-400F-AE5D-7E13BAF08E6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确诊癫痫发作与癫痫最重要的检查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像学检查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I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颅脑影像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783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3850" name="内容占位符 2" descr=""/>
          <p:cNvPicPr/>
          <p:nvPr/>
        </p:nvPicPr>
        <p:blipFill>
          <a:blip r:embed="rId1"/>
          <a:stretch/>
        </p:blipFill>
        <p:spPr>
          <a:xfrm>
            <a:off x="838080" y="1332000"/>
            <a:ext cx="73342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4638-8454-4A81-BDFB-57B6E6BE5F3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癫痫药物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治疗原则是早期用药，根据发作类型选药，以单一用药为主，从小剂量开始直至完全控制发作，长期规律服药，定期复查、监测药物血浓度，注意药物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针对经合理规范的抗癫痫药物治疗其疗效不佳者，属于难治性癫痫，其中部分患儿可以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DD95-481A-49A6-A52D-1004B8D3514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饥饿、过饱、饮酒、劳累等诱发因素，家庭居住的气候、环境条件，家族中有无类似病史的成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生命体征，了解患儿发作时的临床表现、发作时间及次数等，了解相关影像学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了解可能引发疾病的社会及环境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D7C4-D54C-4E1A-9841-3679CD3A4EC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窒息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喉痉挛、呼吸道分泌物增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癫痫发作时抽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水肿、酸中毒、呼吸衰竭、循环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知识缺乏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儿家长缺乏癫痫发作的急救知识及正确服用抗癫痫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CE67-C706-4398-AF1D-31F44990ECA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5" name="AutoShape 53"/>
          <p:cNvSpPr/>
          <p:nvPr/>
        </p:nvSpPr>
        <p:spPr>
          <a:xfrm>
            <a:off x="3571920" y="1914480"/>
            <a:ext cx="488880" cy="46080"/>
          </a:xfrm>
          <a:prstGeom prst="rightArrow">
            <a:avLst>
              <a:gd name="adj1" fmla="val 50000"/>
              <a:gd name="adj2" fmla="val 2205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6" name="圆角矩形 54"/>
          <p:cNvSpPr/>
          <p:nvPr/>
        </p:nvSpPr>
        <p:spPr>
          <a:xfrm>
            <a:off x="4214880" y="1563840"/>
            <a:ext cx="4929120" cy="780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97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798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799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0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1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02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3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4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05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06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07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8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9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0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1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2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13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814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15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6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7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8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9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0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21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22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23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4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5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6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7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8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9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0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1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32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33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4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5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36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7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38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8454-4301-42C6-8169-CA9FA848D29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1" name="AutoShape 53"/>
          <p:cNvSpPr/>
          <p:nvPr/>
        </p:nvSpPr>
        <p:spPr>
          <a:xfrm>
            <a:off x="3368520" y="28098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2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操作时勿强行按压肢体，以免引起骨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患儿肢体，防止皮肤破损、骨折或脱臼、坠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活动与休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43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44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45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6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7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48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9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0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1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52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53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4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5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56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7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8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9" name="Group 4"/>
          <p:cNvGrpSpPr/>
          <p:nvPr/>
        </p:nvGrpSpPr>
        <p:grpSpPr>
          <a:xfrm>
            <a:off x="196920" y="1565280"/>
            <a:ext cx="2997720" cy="748800"/>
            <a:chOff x="196920" y="1565280"/>
            <a:chExt cx="2997720" cy="748800"/>
          </a:xfrm>
        </p:grpSpPr>
        <p:grpSp>
          <p:nvGrpSpPr>
            <p:cNvPr id="4860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61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2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3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64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5" name="Text Box 10"/>
            <p:cNvSpPr/>
            <p:nvPr/>
          </p:nvSpPr>
          <p:spPr>
            <a:xfrm>
              <a:off x="155412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气道通畅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6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67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68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69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0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1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72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3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4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75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6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77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78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79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0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1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2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3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84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0228-8709-4D37-BB87-C7DBDDC905E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7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8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癫痫发作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循环衰竭的征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患儿经抗癫痫治疗后，癫痫发作、智力和运动发育等状况的转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9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90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91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2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3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94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5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6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97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98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99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0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1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02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3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4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05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06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07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8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9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0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1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2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13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14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15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6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7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8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9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0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21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2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23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24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25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6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7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28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9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30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3E94-0220-4B62-817F-C64171DB883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3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4" name="圆角矩形 54"/>
          <p:cNvSpPr/>
          <p:nvPr/>
        </p:nvSpPr>
        <p:spPr>
          <a:xfrm>
            <a:off x="4495680" y="3833640"/>
            <a:ext cx="4324320" cy="2654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围生期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家长合理安排患儿的生活与学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除患儿的精神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35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936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937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8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9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0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1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2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43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944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945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6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7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8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9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0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1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52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53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4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5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6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7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8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9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60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61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2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3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4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5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6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67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8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69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70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71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2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3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74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5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76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节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4FF1-86DB-4A1B-A556-8ECC6A6C26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  <a:ea typeface="黑体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/>
          </p:nvPr>
        </p:nvSpPr>
        <p:spPr>
          <a:xfrm>
            <a:off x="390600" y="2276280"/>
            <a:ext cx="847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感染性多发性神经根神经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uillain-Barre syndrome, G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小儿最常见的急性周围神经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394920" y="242064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因尚未完全明确。多数学者认为本病是免疫介导的迟发型超敏反应，感染是启动免疫反应的首要因素。最主要的感染因子为空肠弯曲菌、巨细胞病毒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、带状疱疹病毒、肺炎支原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2" name="内容占位符 2"/>
          <p:cNvSpPr/>
          <p:nvPr/>
        </p:nvSpPr>
        <p:spPr>
          <a:xfrm>
            <a:off x="500040" y="1844640"/>
            <a:ext cx="8110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生时已具备功能，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构造已接近成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髓末端：新生儿期位于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下缘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上移至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1B63-ACA7-4983-AEED-46A98CCDE9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6" name="矩形 1"/>
          <p:cNvSpPr/>
          <p:nvPr/>
        </p:nvSpPr>
        <p:spPr>
          <a:xfrm>
            <a:off x="668160" y="23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感染、创伤、手术等刺激因素改变机体的免疫系统，导致淋巴细胞对髓鞘敏感，出现髓鞘损伤和神经脱髓鞘的现象，运动、感觉神经冲动传导速度减慢甚至停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运动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行性肌无力是最突出的表现。多数患儿自肢体远端开始呈上行性麻痹进展，急性起病者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即可出现严重的肢体瘫痪以及呼吸机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脑神经麻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对称或不对称的脑神经麻痹，以面神经受损引起的面瘫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4906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感觉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早期即有肌肉疼痛，下肢远端出现不同程度的感觉异常和麻木感。年长儿可表现为手套或袜套状分布感觉减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自主神经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较轻微，可出现视物不清，多汗、面色潮红、腹痛、便秘，一过性尿潴留，血压轻度升高或心率失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06AC-6756-4D86-B25B-192FD1FF793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细胞分离现象，是本病特征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肌电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系统检查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肌力评定、运动能力和深浅感觉等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994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DFE8-478C-4B6F-944E-41A870D60A5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311040" y="136044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药物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疾病初期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）大剂量应用人血免疫球蛋白可明显延缓本病进展速度，减轻极期症状的严重程度，降低气管切开及机械通气的概率。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4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脉注射，连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对症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神经根水肿，可给予甘露醇或短期应用肾上腺皮质激素；积极治疗呼吸肌麻痹，严重病例应及时给予机械通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BCB4-D75B-4EE3-BFF7-DF846682F71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病毒感染、创伤、手术等刺激因素，询问家庭居住的气候、环境条件，家族中有无类似病史的成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患儿肌力变化，注意呼吸及运动感觉功能，了解实验室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家长对该病的预后、疾病的护理方法、药物的副作用等知识的认识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452E-ADDD-4CA5-BD01-932EA5556FC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感觉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效性呼吸型态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呼吸肌瘫痪、咳嗽反射消失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吞咽困难影响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皮肤完整性受损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长期卧床、感觉异常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2CA9-5B99-4E57-8F3A-06FD14FFB19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6" name="AutoShape 53"/>
          <p:cNvSpPr/>
          <p:nvPr/>
        </p:nvSpPr>
        <p:spPr>
          <a:xfrm>
            <a:off x="4124160" y="19890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7" name="圆角矩形 54"/>
          <p:cNvSpPr/>
          <p:nvPr/>
        </p:nvSpPr>
        <p:spPr>
          <a:xfrm>
            <a:off x="4670280" y="1400040"/>
            <a:ext cx="4245120" cy="18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于功能位置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帮助患儿做肢体被动运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恢复期鼓励、指导、督促患儿自主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08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09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10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1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2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13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4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5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16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17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18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9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0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1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2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3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24" name="Group 4"/>
          <p:cNvGrpSpPr/>
          <p:nvPr/>
        </p:nvGrpSpPr>
        <p:grpSpPr>
          <a:xfrm>
            <a:off x="196920" y="1581120"/>
            <a:ext cx="3392640" cy="748800"/>
            <a:chOff x="196920" y="1581120"/>
            <a:chExt cx="3392640" cy="748800"/>
          </a:xfrm>
        </p:grpSpPr>
        <p:grpSp>
          <p:nvGrpSpPr>
            <p:cNvPr id="5025" name="Group 5"/>
            <p:cNvGrpSpPr/>
            <p:nvPr/>
          </p:nvGrpSpPr>
          <p:grpSpPr>
            <a:xfrm>
              <a:off x="196920" y="1581120"/>
              <a:ext cx="792720" cy="748800"/>
              <a:chOff x="196920" y="1581120"/>
              <a:chExt cx="792720" cy="748800"/>
            </a:xfrm>
          </p:grpSpPr>
          <p:sp>
            <p:nvSpPr>
              <p:cNvPr id="5026" name="AutoShape 6"/>
              <p:cNvSpPr/>
              <p:nvPr/>
            </p:nvSpPr>
            <p:spPr>
              <a:xfrm>
                <a:off x="203400" y="15937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7" name="AutoShape 7"/>
              <p:cNvSpPr/>
              <p:nvPr/>
            </p:nvSpPr>
            <p:spPr>
              <a:xfrm>
                <a:off x="196920" y="158112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8" name="AutoShape 8"/>
              <p:cNvSpPr/>
              <p:nvPr/>
            </p:nvSpPr>
            <p:spPr>
              <a:xfrm>
                <a:off x="243000" y="162540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9" name="Line 9"/>
            <p:cNvSpPr/>
            <p:nvPr/>
          </p:nvSpPr>
          <p:spPr>
            <a:xfrm>
              <a:off x="796680" y="222984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0" name="Text Box 10"/>
            <p:cNvSpPr/>
            <p:nvPr/>
          </p:nvSpPr>
          <p:spPr>
            <a:xfrm>
              <a:off x="1702080" y="16437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1" name="Text Box 11"/>
            <p:cNvSpPr/>
            <p:nvPr/>
          </p:nvSpPr>
          <p:spPr>
            <a:xfrm>
              <a:off x="381960" y="163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32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33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34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5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6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37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8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9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0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1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42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43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44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5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6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7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8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9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6208-CBB9-4F52-ADFE-567D270D100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2" name="AutoShape 53"/>
          <p:cNvSpPr/>
          <p:nvPr/>
        </p:nvSpPr>
        <p:spPr>
          <a:xfrm>
            <a:off x="3624120" y="27972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3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室内空气新鲜，温、湿度适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呼吸道通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困难者给予低流量氧气吸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54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55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56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7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8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59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0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1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62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63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64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5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6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67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8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9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0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071" name="Group 5"/>
            <p:cNvGrpSpPr/>
            <p:nvPr/>
          </p:nvGrpSpPr>
          <p:grpSpPr>
            <a:xfrm>
              <a:off x="196920" y="1565280"/>
              <a:ext cx="792360" cy="748800"/>
              <a:chOff x="196920" y="1565280"/>
              <a:chExt cx="792360" cy="748800"/>
            </a:xfrm>
          </p:grpSpPr>
          <p:sp>
            <p:nvSpPr>
              <p:cNvPr id="5072" name="AutoShape 6"/>
              <p:cNvSpPr/>
              <p:nvPr/>
            </p:nvSpPr>
            <p:spPr>
              <a:xfrm>
                <a:off x="203400" y="157788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3" name="AutoShape 7"/>
              <p:cNvSpPr/>
              <p:nvPr/>
            </p:nvSpPr>
            <p:spPr>
              <a:xfrm>
                <a:off x="196920" y="15652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4" name="AutoShape 8"/>
              <p:cNvSpPr/>
              <p:nvPr/>
            </p:nvSpPr>
            <p:spPr>
              <a:xfrm>
                <a:off x="243000" y="1609560"/>
                <a:ext cx="689760" cy="647280"/>
              </a:xfrm>
              <a:prstGeom prst="hexagon">
                <a:avLst>
                  <a:gd name="adj" fmla="val 2668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75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6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7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8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79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80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1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2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83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4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5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86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7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88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89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90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1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2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93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94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95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4EDB-2685-42A4-A656-480632B566E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8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9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高蛋白、高能量、高维生素易消化饮食，少量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00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01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02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3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4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5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6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7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08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09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10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1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2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3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4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5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16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17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18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9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0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1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2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3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24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25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26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7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8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9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0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1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32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3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34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35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36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7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8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39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0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41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55" name="图片 5" descr="5.jpg"/>
          <p:cNvPicPr/>
          <p:nvPr/>
        </p:nvPicPr>
        <p:blipFill>
          <a:blip r:embed="rId1"/>
          <a:stretch/>
        </p:blipFill>
        <p:spPr>
          <a:xfrm>
            <a:off x="1227240" y="1488960"/>
            <a:ext cx="67658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87E1-DA3D-4674-950C-7721425B21E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4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5" name="圆角矩形 54"/>
          <p:cNvSpPr/>
          <p:nvPr/>
        </p:nvSpPr>
        <p:spPr>
          <a:xfrm>
            <a:off x="4284720" y="4103640"/>
            <a:ext cx="4324320" cy="2338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预防压疮。教会家长帮助患儿进行训练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恢复期患儿坚持瘫痪肢体的主动锻炼，定期进行门诊复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46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47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48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9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0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1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2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3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4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55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56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7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8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9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0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1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62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63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64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5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6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67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8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9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70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71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72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3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4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5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6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7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78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9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0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81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82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3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4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5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6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87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节　注意力缺陷多动症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9171-7D26-4616-86B4-8FFECC1869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力缺陷多动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390600" y="1989000"/>
            <a:ext cx="847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轻微脑功能障碍综合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imal brain dysfunction syndrome, M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以与年龄不相称的多动、注意力不集中、任性、易冲动为主要特征的行为障碍，是一种常见的小儿行为异常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533160" y="2492280"/>
            <a:ext cx="8381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病由多种因素引起。有研究证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明显的遗传倾向；此外，与各种原因导致的脑损伤有关，如妊娠及分娩期脑轻微损伤、神经发育延迟或损害等；不良社会和家庭环境等也可能是致病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6630-DCB7-49F0-B1B0-D0CC0132A9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7" name="矩形 1"/>
          <p:cNvSpPr/>
          <p:nvPr/>
        </p:nvSpPr>
        <p:spPr>
          <a:xfrm>
            <a:off x="668160" y="23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4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多肽性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有关，它主要分布在额叶，它的异常提示额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功能低下引发注意障碍。分子生物学研究多巴胺代谢异常或敏感性增高，其他研究多集中在丘脑、网状激活系统和前中脑束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注意缺陷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的表现欲年龄明显不相称，注意集中困难和注意持续时间短暂，是本症的核心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活动过多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为患者经常显得不安宁，小动作多，不能安静坐着，在座位上扭来扭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行为冲动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冲动，在信息不充分的情况下快速地做出行为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学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神经系统发育异常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的精细动作、协调运动、空间位置觉等发育较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品行障碍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行障碍表现为攻击性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F384-F261-4BDF-B9B7-97080B9A124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graphicFrame>
        <p:nvGraphicFramePr>
          <p:cNvPr id="5205" name=""/>
          <p:cNvGraphicFramePr/>
          <p:nvPr/>
        </p:nvGraphicFramePr>
        <p:xfrm>
          <a:off x="287280" y="1628640"/>
          <a:ext cx="8567640" cy="4646880"/>
        </p:xfrm>
        <a:graphic>
          <a:graphicData uri="http://schemas.openxmlformats.org/drawingml/2006/table">
            <a:tbl>
              <a:tblPr/>
              <a:tblGrid>
                <a:gridCol w="4554720"/>
                <a:gridCol w="4012920"/>
              </a:tblGrid>
              <a:tr h="454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意力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易受外来影响而激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教室常常离开座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监督时难以有始有终地完成任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未加思考即开始行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持久性集中注意力（作业、游戏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集体活动中常不按次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听不进别人说什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在问题尚未说完时即抢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常丢失生活和学习用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安静地玩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学校课堂注意力分散、成绩不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做出过分的行动如爬高、乱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能组织达到一定目的的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与危险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事未完又做另一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坐立不安、动手动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干扰别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说话过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06" name="矩形 2"/>
          <p:cNvSpPr/>
          <p:nvPr/>
        </p:nvSpPr>
        <p:spPr>
          <a:xfrm>
            <a:off x="2925360" y="10922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H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诊断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FCE1-60FD-43B7-911E-67E2FD9032D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长、教师、医务人员密切配合，尽可能寻找并去除致病诱因，减轻患儿精神负担，减少不良刺激，发现优点及时表扬，增强其自信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用药护理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需要药物治疗的患儿应指导用药方法，并注意对药物的疗效及副作用进行监测。以精神兴奋剂最为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4FC2-6E54-4AE8-BF71-A0B0F6F65B6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仔细询问产前、产时及产后是否存在导致轻度脑损害的因素，评估患儿生活及居住环境，了解患儿父母的行为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障碍、多动、情绪冲动、学习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及家长的心理状态。家长及周围人群往往对患儿产生厌烦心理，加上周围人群的歧视，会导致患儿失去自信心，产生自悲心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395280" y="1699920"/>
            <a:ext cx="8352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及正常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脑脊液成分与成人相同，为无色碱性液体，内含蛋白质、糖、淋巴细胞和盐类物质，其比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小儿脑脊液随着年龄的增长和脑室的发育逐渐增加，新生儿脑积液的量少、压力低，故抽取脑脊液较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4DF5-3164-4999-A477-54C1C624978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0597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思维紊乱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注意力不集中、活动过度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常有攻击破坏行为和学习成绩落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社会交往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任性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外伤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多动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2921-47AB-4351-91E8-68A1F93A52A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8" name="矩形 1"/>
          <p:cNvSpPr/>
          <p:nvPr/>
        </p:nvSpPr>
        <p:spPr>
          <a:xfrm>
            <a:off x="264960" y="1219320"/>
            <a:ext cx="8461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常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其参与文体活动，以释放多余精力并训练其注意力，同时增强其自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患儿制定简单可行的生活制度，循序渐进地培养其注意力和控制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针对其特点合理安排课程和学习计划，改进学习方法，提高学习成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指导患儿及家长采用专业的行为矫正治疗，矫正患儿的多动和冲动，提高其学习能力和社会交往能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DD3E-8557-4883-B356-5D4178E6907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1" name="矩形 1"/>
          <p:cNvSpPr/>
          <p:nvPr/>
        </p:nvSpPr>
        <p:spPr>
          <a:xfrm>
            <a:off x="407880" y="1557360"/>
            <a:ext cx="84819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向患儿及家长介绍本病的相关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解释药物治疗同时加强教育及心理护理的重要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情、关心爱护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有不良习惯和学习困难的患儿，不断增强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患儿的一些攻击性和破坏性行为要严加制止，但应注意方式方法，保护患儿的自尊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庭、学校、社会应协调一致，以取得最佳的教育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6:56:19Z</dcterms:modified>
  <cp:revision>2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